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1A0-5CB0-4641-9EDF-5E651EF8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039-F7D4-464D-B021-D5EA78B3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391-8A4E-48F2-92FA-3364E1F8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B58-5B53-48EA-BA92-2B337E8A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763-E1E0-460E-8B06-99C82AE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781-13EA-4BB0-8E93-B2E932E1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FCD-52ED-46B9-B997-698DE35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8E8-3E2F-4D96-8827-22F5CF84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844-465A-4737-B8FC-5F131592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142-C320-415B-96F4-3C7816D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9CE-50A3-43A0-92AC-4ADD6C36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EA1-7B7A-4C3E-A0A6-92B4718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90E-E2F6-4BC0-AC93-5BC8FFD9C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9.1.jpg"/>
          <p:cNvPicPr/>
          <p:nvPr/>
        </p:nvPicPr>
        <p:blipFill>
          <a:blip r:embed="rId1"/>
          <a:stretch/>
        </p:blipFill>
        <p:spPr>
          <a:xfrm>
            <a:off x="0" y="1273320"/>
            <a:ext cx="9144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8:41Z</dcterms:created>
  <dc:creator>conversion</dc:creator>
  <dc:description/>
  <dc:language>en-US</dc:language>
  <cp:lastModifiedBy>conversion</cp:lastModifiedBy>
  <dcterms:modified xsi:type="dcterms:W3CDTF">2015-10-13T05:48:48Z</dcterms:modified>
  <cp:revision>1</cp:revision>
  <dc:subject/>
  <dc:title>Slide 1</dc:title>
</cp:coreProperties>
</file>