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1219-2F30-42BC-819F-E0D66C01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A45-FBB1-4FCD-95AA-16972AB9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2D9-9FDA-4658-AEFB-4A22FB23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D80-6CFB-472D-95ED-E335ACB3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7CD-568D-441B-8F56-D3051D6F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282-7C10-4671-ACD6-205F3460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2CC-27A6-4160-9617-36DA1335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1AF-98BA-4FA6-B35E-8E5131AA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E3F-EFC7-460E-8F45-C22A965C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7B2-1170-488B-9694-95951AD5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491-A36A-4AAB-A90B-A820A2FA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2E9-E5DB-4B26-92C2-D5EA652A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2D83-F870-4B47-BF03-6EE706ED3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leszek_9e_Figure 1.1.jpg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leszek_9e_Table 1.1.jpg"/>
          <p:cNvPicPr/>
          <p:nvPr/>
        </p:nvPicPr>
        <p:blipFill>
          <a:blip r:embed="rId1"/>
          <a:stretch/>
        </p:blipFill>
        <p:spPr>
          <a:xfrm>
            <a:off x="151128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2:05:40Z</dcterms:created>
  <dc:creator>Administrator</dc:creator>
  <dc:description/>
  <dc:language>en-US</dc:language>
  <cp:lastModifiedBy>Administrator</cp:lastModifiedBy>
  <dcterms:modified xsi:type="dcterms:W3CDTF">2013-03-12T12:09:20Z</dcterms:modified>
  <cp:revision>2</cp:revision>
  <dc:subject/>
  <dc:title>Slide 1</dc:title>
</cp:coreProperties>
</file>