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F37-C802-4300-AE0D-41947D48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470-EA2C-4C9E-B507-EA268F4D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3D1-647A-4D5E-959E-D6C0F876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4B6-FAEC-4401-8D63-C810E1D2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3E5-9D80-47ED-8964-E53A7615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88E-3D39-4C3F-97A9-5E3758F5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DF5-B307-4F8B-82D2-C78F09FF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BE1-F529-4CAD-876D-8D702455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DC4-1281-48E8-AFE9-4065D4D5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344-0C42-4578-854E-1FE96650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959-FD5A-4395-80E0-083445F6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224-D25F-40EA-972C-1FF3163C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C85E-DF07-47E7-936D-B7FB01EE7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9e_Figure 2.1.jpg"/>
          <p:cNvPicPr/>
          <p:nvPr/>
        </p:nvPicPr>
        <p:blipFill>
          <a:blip r:embed="rId1"/>
          <a:stretch/>
        </p:blipFill>
        <p:spPr>
          <a:xfrm>
            <a:off x="206280" y="0"/>
            <a:ext cx="873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9e_Table 2.1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2:09:55Z</dcterms:created>
  <dc:creator>Administrator</dc:creator>
  <dc:description/>
  <dc:language>en-US</dc:language>
  <cp:lastModifiedBy>Administrator</cp:lastModifiedBy>
  <dcterms:modified xsi:type="dcterms:W3CDTF">2013-03-12T12:10:36Z</dcterms:modified>
  <cp:revision>1</cp:revision>
  <dc:subject/>
  <dc:title>Slide 1</dc:title>
</cp:coreProperties>
</file>