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7E4-0D57-4EC9-BE7C-D013F0E1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369-1FF2-4B1B-9224-386C8EB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D0D-6DDE-4650-AF45-C49D225D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C10-FDC0-4CB2-8570-A0A78B3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53E-5C40-4D30-ACEC-55F20C2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816-9647-4A30-B061-6F3CCE0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1AD-8880-4394-B1C2-1EB201CC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594-6D46-4EC4-B6BF-E1FCDF7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C71-9A28-4B53-BE13-4480ECF1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23C-DB6B-4ACB-8BC3-74A0FB5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FF2-513B-4BE2-9F6F-4C2BAEC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F10-B3A2-4D1B-8398-2EC6E22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216-3E20-4AE5-9237-7AC79C0F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3.1.jpg"/>
          <p:cNvPicPr/>
          <p:nvPr/>
        </p:nvPicPr>
        <p:blipFill>
          <a:blip r:embed="rId1"/>
          <a:stretch/>
        </p:blipFill>
        <p:spPr>
          <a:xfrm>
            <a:off x="2502000" y="0"/>
            <a:ext cx="414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Table 3.1.jpg"/>
          <p:cNvPicPr/>
          <p:nvPr/>
        </p:nvPicPr>
        <p:blipFill>
          <a:blip r:embed="rId1"/>
          <a:stretch/>
        </p:blipFill>
        <p:spPr>
          <a:xfrm>
            <a:off x="717480" y="0"/>
            <a:ext cx="770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11:10Z</dcterms:created>
  <dc:creator>Administrator</dc:creator>
  <dc:description/>
  <dc:language>en-US</dc:language>
  <cp:lastModifiedBy>Administrator</cp:lastModifiedBy>
  <dcterms:modified xsi:type="dcterms:W3CDTF">2013-03-12T12:11:29Z</dcterms:modified>
  <cp:revision>1</cp:revision>
  <dc:subject/>
  <dc:title>Slide 1</dc:title>
</cp:coreProperties>
</file>