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C19F-4448-4FAA-8D6E-BBB1E84F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3C0-F2B5-43A8-9EE9-5E15E7F2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C95-D0D8-4FA1-A4E4-99B8BD65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747-0D3D-4543-8087-2E6DC699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237-F9E8-4015-AEB8-A73E3A75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3B36-256D-49F2-B623-8A7B111B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7BB4-BC63-4AC5-933F-FB05868A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5AF-89CD-4AEB-A85A-4ED2F933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33F3-BBF2-42C3-B11A-823F3756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009-A16D-4C48-91DA-B86BAD3E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F16-E653-48AC-9315-A07E2CF2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C63-40D1-433A-830F-26BFADF8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C116-0DE0-439D-8027-E958BEEB8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leszek_9e_Figure 4.1.jpg"/>
          <p:cNvPicPr/>
          <p:nvPr/>
        </p:nvPicPr>
        <p:blipFill>
          <a:blip r:embed="rId1"/>
          <a:stretch/>
        </p:blipFill>
        <p:spPr>
          <a:xfrm>
            <a:off x="2463840" y="0"/>
            <a:ext cx="421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leszek_9e_Figure 4.2.jpg"/>
          <p:cNvPicPr/>
          <p:nvPr/>
        </p:nvPicPr>
        <p:blipFill>
          <a:blip r:embed="rId1"/>
          <a:stretch/>
        </p:blipFill>
        <p:spPr>
          <a:xfrm>
            <a:off x="165240" y="0"/>
            <a:ext cx="881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leszek_9e_Table 4.1.jpg"/>
          <p:cNvPicPr/>
          <p:nvPr/>
        </p:nvPicPr>
        <p:blipFill>
          <a:blip r:embed="rId1"/>
          <a:stretch/>
        </p:blipFill>
        <p:spPr>
          <a:xfrm>
            <a:off x="0" y="720720"/>
            <a:ext cx="914400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leszek_9e_Table 4.2.jpg"/>
          <p:cNvPicPr/>
          <p:nvPr/>
        </p:nvPicPr>
        <p:blipFill>
          <a:blip r:embed="rId1"/>
          <a:stretch/>
        </p:blipFill>
        <p:spPr>
          <a:xfrm>
            <a:off x="1271520" y="0"/>
            <a:ext cx="660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leszek_9e_Table 4.3.jpg"/>
          <p:cNvPicPr/>
          <p:nvPr/>
        </p:nvPicPr>
        <p:blipFill>
          <a:blip r:embed="rId1"/>
          <a:stretch/>
        </p:blipFill>
        <p:spPr>
          <a:xfrm>
            <a:off x="0" y="484200"/>
            <a:ext cx="914400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2:11:58Z</dcterms:created>
  <dc:creator>Administrator</dc:creator>
  <dc:description/>
  <dc:language>en-US</dc:language>
  <cp:lastModifiedBy>Administrator</cp:lastModifiedBy>
  <dcterms:modified xsi:type="dcterms:W3CDTF">2013-03-12T12:12:25Z</dcterms:modified>
  <cp:revision>1</cp:revision>
  <dc:subject/>
  <dc:title>Slide 1</dc:title>
</cp:coreProperties>
</file>