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266-7200-49A0-8D2E-918610F8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271-6423-4832-B4F1-6FC0AF9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7EE-FD52-40AF-9242-B6A54376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83F-91D2-4472-83F6-0E392150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805-2DDB-4806-AEC8-5B7C5315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B4D-FAB5-489D-9635-74B8113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7C8-85CE-479E-AB69-EEFB3AA4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785-1686-4FF6-8E87-C38EE922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778-92E1-40F1-8847-AC3278E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C51-EC16-49C0-BEC4-7E85AB8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889-4484-49E2-9BC3-B351857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292-8E3A-4D56-8BC3-5E1B0CE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81D-1F6E-47A5-BA57-D35549148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5.1.jpg"/>
          <p:cNvPicPr/>
          <p:nvPr/>
        </p:nvPicPr>
        <p:blipFill>
          <a:blip r:embed="rId1"/>
          <a:stretch/>
        </p:blipFill>
        <p:spPr>
          <a:xfrm>
            <a:off x="2367000" y="0"/>
            <a:ext cx="44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Figure 5.2.jpg"/>
          <p:cNvPicPr/>
          <p:nvPr/>
        </p:nvPicPr>
        <p:blipFill>
          <a:blip r:embed="rId1"/>
          <a:stretch/>
        </p:blipFill>
        <p:spPr>
          <a:xfrm>
            <a:off x="1460520" y="0"/>
            <a:ext cx="62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9e_Table 5.1.jpg"/>
          <p:cNvPicPr/>
          <p:nvPr/>
        </p:nvPicPr>
        <p:blipFill>
          <a:blip r:embed="rId1"/>
          <a:stretch/>
        </p:blipFill>
        <p:spPr>
          <a:xfrm>
            <a:off x="163440" y="0"/>
            <a:ext cx="881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2:48Z</dcterms:created>
  <dc:creator>Administrator</dc:creator>
  <dc:description/>
  <dc:language>en-US</dc:language>
  <cp:lastModifiedBy>Administrator</cp:lastModifiedBy>
  <dcterms:modified xsi:type="dcterms:W3CDTF">2013-03-12T12:18:42Z</dcterms:modified>
  <cp:revision>2</cp:revision>
  <dc:subject/>
  <dc:title>Slide 1</dc:title>
</cp:coreProperties>
</file>