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78D7-9844-4342-83C1-3D7793F8B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4108-4B0A-4F21-A0E7-C7A9F5F3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B954-95E1-4622-9FAB-411C8B900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1676-E18E-4352-B125-B76BAB16D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AF22-28B5-4627-AF55-1B67E500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DA7C-9CA8-4240-98D6-9C91D63F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6BB7-994A-4752-A181-6141EAB8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D182-BCA6-4146-B044-164DAC39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1A41-90E8-4DF9-8BA3-C8FFFD64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5C57-9648-4844-8CDE-086FC7F2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91EA-EABA-4440-A9BE-DC6688AF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218A-064D-4839-9368-0BFFFD84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60A6-02E0-4B83-B1DB-B5B5B3867A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Oleszek_9e_Figure 6.1.jpg"/>
          <p:cNvPicPr/>
          <p:nvPr/>
        </p:nvPicPr>
        <p:blipFill>
          <a:blip r:embed="rId1"/>
          <a:stretch/>
        </p:blipFill>
        <p:spPr>
          <a:xfrm>
            <a:off x="1422360" y="0"/>
            <a:ext cx="629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Oleszek_9e_Figure 6.2.jpg"/>
          <p:cNvPicPr/>
          <p:nvPr/>
        </p:nvPicPr>
        <p:blipFill>
          <a:blip r:embed="rId1"/>
          <a:stretch/>
        </p:blipFill>
        <p:spPr>
          <a:xfrm>
            <a:off x="2444760" y="0"/>
            <a:ext cx="4254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Oleszek_9e_Figure 6.3.jpg"/>
          <p:cNvPicPr/>
          <p:nvPr/>
        </p:nvPicPr>
        <p:blipFill>
          <a:blip r:embed="rId1"/>
          <a:stretch/>
        </p:blipFill>
        <p:spPr>
          <a:xfrm>
            <a:off x="2505240" y="0"/>
            <a:ext cx="413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Oleszek_9e_Table 6.1.jpg"/>
          <p:cNvPicPr/>
          <p:nvPr/>
        </p:nvPicPr>
        <p:blipFill>
          <a:blip r:embed="rId1"/>
          <a:stretch/>
        </p:blipFill>
        <p:spPr>
          <a:xfrm>
            <a:off x="784080" y="0"/>
            <a:ext cx="7574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Oleszek_9e_Table 6.2.jpg"/>
          <p:cNvPicPr/>
          <p:nvPr/>
        </p:nvPicPr>
        <p:blipFill>
          <a:blip r:embed="rId1"/>
          <a:stretch/>
        </p:blipFill>
        <p:spPr>
          <a:xfrm>
            <a:off x="0" y="246240"/>
            <a:ext cx="9144000" cy="63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Oleszek_9e_Table 6.3.jpg"/>
          <p:cNvPicPr/>
          <p:nvPr/>
        </p:nvPicPr>
        <p:blipFill>
          <a:blip r:embed="rId1"/>
          <a:stretch/>
        </p:blipFill>
        <p:spPr>
          <a:xfrm>
            <a:off x="971640" y="0"/>
            <a:ext cx="72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12:13:44Z</dcterms:created>
  <dc:creator>Administrator</dc:creator>
  <dc:description/>
  <dc:language>en-US</dc:language>
  <cp:lastModifiedBy>Administrator</cp:lastModifiedBy>
  <dcterms:modified xsi:type="dcterms:W3CDTF">2013-03-12T12:14:27Z</dcterms:modified>
  <cp:revision>1</cp:revision>
  <dc:subject/>
  <dc:title>Slide 1</dc:title>
</cp:coreProperties>
</file>