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535-5E23-453D-9F6E-CB960025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D3F-BB38-4E42-9479-98044DC0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E2B-B29A-427A-A896-B6B5EAF2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4E-E843-47CE-8B79-24283A4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8EA-70AF-41C5-94DC-7ACD95F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74D-D67D-4A28-9095-BAA20AEE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737-D6AF-4B98-AA9B-A83C874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3C5-AA46-47DC-BEFE-D8787EC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ADC-E953-489C-A29A-1B3E26C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EEC-5EC4-4F14-8A54-6B2B0FC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B1D-801A-4FE4-B207-A5A1C575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C08-A793-44F7-AD3D-797A0084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2C1-9DC1-437D-A37E-E04A95B4A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7.1.jpg"/>
          <p:cNvPicPr/>
          <p:nvPr/>
        </p:nvPicPr>
        <p:blipFill>
          <a:blip r:embed="rId1"/>
          <a:stretch/>
        </p:blipFill>
        <p:spPr>
          <a:xfrm>
            <a:off x="2506680" y="0"/>
            <a:ext cx="41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Figure 7.2.jpg"/>
          <p:cNvPicPr/>
          <p:nvPr/>
        </p:nvPicPr>
        <p:blipFill>
          <a:blip r:embed="rId1"/>
          <a:stretch/>
        </p:blipFill>
        <p:spPr>
          <a:xfrm>
            <a:off x="168120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9e_Figure 7.3.jpg"/>
          <p:cNvPicPr/>
          <p:nvPr/>
        </p:nvPicPr>
        <p:blipFill>
          <a:blip r:embed="rId1"/>
          <a:stretch/>
        </p:blipFill>
        <p:spPr>
          <a:xfrm>
            <a:off x="544680" y="0"/>
            <a:ext cx="805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9e_Table 7.1.jpg"/>
          <p:cNvPicPr/>
          <p:nvPr/>
        </p:nvPicPr>
        <p:blipFill>
          <a:blip r:embed="rId1"/>
          <a:stretch/>
        </p:blipFill>
        <p:spPr>
          <a:xfrm>
            <a:off x="947880" y="0"/>
            <a:ext cx="72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4:52Z</dcterms:created>
  <dc:creator>Administrator</dc:creator>
  <dc:description/>
  <dc:language>en-US</dc:language>
  <cp:lastModifiedBy>Administrator</cp:lastModifiedBy>
  <dcterms:modified xsi:type="dcterms:W3CDTF">2013-03-12T12:15:25Z</dcterms:modified>
  <cp:revision>1</cp:revision>
  <dc:subject/>
  <dc:title>Slide 1</dc:title>
</cp:coreProperties>
</file>