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5F711-6248-4D1A-ABFE-73828CCE3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6AA9D-99E3-45F0-B1E7-D7650C25B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166BE-A183-46F8-B287-E14332B1E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20B47-833F-4429-8FCD-7BABC30DA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0B3EE-AB1A-4D28-9122-0AAC9A562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D8C52-D034-439A-98B3-66D42C530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8333B-36E1-4F01-B26E-5DD6300BA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55A12-99FB-4B48-91F9-531314A97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64E47-4B17-479D-9DFF-C3222BCD8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CE574-D556-40CE-86F6-DC845ABD2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53A4E-9640-4374-A9C3-4DD92DB1C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FF7E3-456A-440B-AA88-A7FEC30D2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2BC80-C095-4488-B59F-5B415A6876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Oleszek_9e_Figure 8.1.jpg"/>
          <p:cNvPicPr/>
          <p:nvPr/>
        </p:nvPicPr>
        <p:blipFill>
          <a:blip r:embed="rId1"/>
          <a:stretch/>
        </p:blipFill>
        <p:spPr>
          <a:xfrm>
            <a:off x="2268360" y="0"/>
            <a:ext cx="4607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Oleszek_9e_Figure 8.2.jpg"/>
          <p:cNvPicPr/>
          <p:nvPr/>
        </p:nvPicPr>
        <p:blipFill>
          <a:blip r:embed="rId1"/>
          <a:stretch/>
        </p:blipFill>
        <p:spPr>
          <a:xfrm>
            <a:off x="2344680" y="0"/>
            <a:ext cx="4452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Oleszek_9e_Table 8.1.jpg"/>
          <p:cNvPicPr/>
          <p:nvPr/>
        </p:nvPicPr>
        <p:blipFill>
          <a:blip r:embed="rId1"/>
          <a:stretch/>
        </p:blipFill>
        <p:spPr>
          <a:xfrm>
            <a:off x="716040" y="0"/>
            <a:ext cx="7710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2T12:15:43Z</dcterms:created>
  <dc:creator>Administrator</dc:creator>
  <dc:description/>
  <dc:language>en-US</dc:language>
  <cp:lastModifiedBy>Administrator</cp:lastModifiedBy>
  <dcterms:modified xsi:type="dcterms:W3CDTF">2013-03-12T12:19:42Z</dcterms:modified>
  <cp:revision>1</cp:revision>
  <dc:subject/>
  <dc:title>Slide 1</dc:title>
</cp:coreProperties>
</file>