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B9D-DDEA-4249-B90D-5244E71F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AF0-2F60-44F4-871C-0001B27E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20D-CD08-498A-AD6A-EDDFE832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C6F-1557-4514-A87B-DE66848A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5BA-41A4-4CA1-A5EA-29BF1F64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54A-D9E5-45BF-8D95-E777887C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9FF-431A-4186-9B28-B3AEC9D3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AB4-FD65-48CB-A635-38DD761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92A-FA5C-4A61-96F3-37B54266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BC3-7893-487A-9E05-AC1CBFA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16A-E9E1-435C-819F-E3C03DC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318-0193-4D11-B37F-60ADABD8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E3B3-5796-4F98-80D6-3FB1480FE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ristopher_Un Table 0.1.jpg"/>
          <p:cNvPicPr/>
          <p:nvPr/>
        </p:nvPicPr>
        <p:blipFill>
          <a:blip r:embed="rId1"/>
          <a:stretch/>
        </p:blipFill>
        <p:spPr>
          <a:xfrm>
            <a:off x="0" y="1366920"/>
            <a:ext cx="91440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ristopher_Un Table 0.2.jpg"/>
          <p:cNvPicPr/>
          <p:nvPr/>
        </p:nvPicPr>
        <p:blipFill>
          <a:blip r:embed="rId1"/>
          <a:stretch/>
        </p:blipFill>
        <p:spPr>
          <a:xfrm>
            <a:off x="306360" y="0"/>
            <a:ext cx="853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11:10:25Z</dcterms:created>
  <dc:creator>vanmathi_cmt298</dc:creator>
  <dc:description/>
  <dc:language>en-US</dc:language>
  <cp:lastModifiedBy>vanmathi_cmt298</cp:lastModifiedBy>
  <dcterms:modified xsi:type="dcterms:W3CDTF">2016-09-22T11:11:54Z</dcterms:modified>
  <cp:revision>1</cp:revision>
  <dc:subject/>
  <dc:title>Slide 1</dc:title>
</cp:coreProperties>
</file>