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004-F7B1-455D-85FC-C2845236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C47-16C4-4028-A74C-807AA302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4D6-62D5-40E0-B5B9-DF5DC2C9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ABE-F89B-45A2-B2B4-C2C22EA0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DF1-3188-4650-8DC7-40D692F1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069-F963-404B-AF8C-C99D2F0F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D1D-F718-4FD9-8192-8AB2274B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51F-EC10-476A-A352-E1A96D3F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8C5-4698-4C4E-8EC0-98E36E6A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A69-B5CD-44A4-948E-B4B92AF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E40-3DB2-49A9-A9EB-32CB6A13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8C2-37EB-442F-9CD3-074FBAEC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460E-B832-4ACE-ABD1-3B7D2C9D3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Box 15.1.jpg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Figure 15.1.jpg"/>
          <p:cNvPicPr/>
          <p:nvPr/>
        </p:nvPicPr>
        <p:blipFill>
          <a:blip r:embed="rId1"/>
          <a:stretch/>
        </p:blipFill>
        <p:spPr>
          <a:xfrm>
            <a:off x="1741320" y="0"/>
            <a:ext cx="565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ristopher_Figure 15.1(Continued)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ristopher_Figure 15.1(1).jpg"/>
          <p:cNvPicPr/>
          <p:nvPr/>
        </p:nvPicPr>
        <p:blipFill>
          <a:blip r:embed="rId1"/>
          <a:stretch/>
        </p:blipFill>
        <p:spPr>
          <a:xfrm>
            <a:off x="1527120" y="0"/>
            <a:ext cx="608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ristopher_Figure 15.1(1)(Continued).jpg"/>
          <p:cNvPicPr/>
          <p:nvPr/>
        </p:nvPicPr>
        <p:blipFill>
          <a:blip r:embed="rId1"/>
          <a:stretch/>
        </p:blipFill>
        <p:spPr>
          <a:xfrm>
            <a:off x="3492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ristopher_Figure 15.1(2).jpg"/>
          <p:cNvPicPr/>
          <p:nvPr/>
        </p:nvPicPr>
        <p:blipFill>
          <a:blip r:embed="rId1"/>
          <a:stretch/>
        </p:blipFill>
        <p:spPr>
          <a:xfrm>
            <a:off x="152892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ristopher_Figure 15.1(2)(Continued).jpg"/>
          <p:cNvPicPr/>
          <p:nvPr/>
        </p:nvPicPr>
        <p:blipFill>
          <a:blip r:embed="rId1"/>
          <a:stretch/>
        </p:blipFill>
        <p:spPr>
          <a:xfrm>
            <a:off x="0" y="320760"/>
            <a:ext cx="91440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20:54Z</dcterms:created>
  <dc:creator>Meenakshi_CMT162</dc:creator>
  <dc:description/>
  <dc:language>en-US</dc:language>
  <cp:lastModifiedBy>Meenakshi_CMT162</cp:lastModifiedBy>
  <dcterms:modified xsi:type="dcterms:W3CDTF">2016-09-22T11:25:25Z</dcterms:modified>
  <cp:revision>1</cp:revision>
  <dc:subject/>
  <dc:title>Slide 1</dc:title>
</cp:coreProperties>
</file>