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D2F3-6A6C-4348-B849-F44B7CBD4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4057-CDC7-41BE-9A5E-6FFFFDBCED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C531-0CE1-4A68-BFFA-DABDEF8938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FFF5-465D-4EF1-95AD-72E8948A86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AD44-D5B9-4731-B5A3-8021C0593A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B0E8-A614-4BB4-9A2D-7045C5133C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279A-CDFF-4CBF-B33D-C566365FA8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7275-AB15-4DC7-9B01-117C566DFA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3E64-5C01-4780-9DF9-104263FD45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A556-9F71-48A5-B32D-83E84B8B10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0A33-8258-4276-B80A-49372398E1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DA52-32EB-4271-81FB-EF2C80976D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CA75-D4BE-48AB-9853-CABED68DA0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B3BE-C8F8-42F5-A242-C8ED0060E7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B602-1D66-4E31-8A09-90522D3492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4DBA-F62C-4379-9D75-E940A859E6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5F14-2CF0-4CEF-9169-F9DE3E0E3E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B683-6AEC-4D0B-8645-1960D55C03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E7F-B1BA-4CA5-AA44-5CFA56AD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40D-EB0D-4474-A147-7F01C61F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F59-152A-46FE-9DA9-DF9F8B0E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D641-2059-4603-A2A1-6731F704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1BA-5352-402E-8499-587B59E7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6E5-C321-44B7-A330-96112667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698-BFF9-4E71-BD1E-2CEA7B9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551-F551-4595-8AA5-D58CECB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2F8-BB1E-4B7E-BA8C-E6A1EA3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FF2-9846-4DF0-B71B-43D06E91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B80-9E19-4DCE-8264-78D78CE6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008-1B87-4C7B-8CDA-54A1AF1C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A93F-0119-459D-A0A1-F0C7AADA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4E82-14AD-4D1F-BEA4-ADC6D4CD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CEEF-EE33-4A69-98A9-8B7A76A2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A16C-8516-497E-8F43-E1D042C6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037F-498A-4B7F-8B03-D6169B3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C184-D4FF-462A-B445-A4C316E7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0FD9-CBA3-4085-82BF-3859D096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A7D6-7CA8-4BCA-A451-2DA3379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6422-8025-41E2-B7CC-AA7CA3D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F0D-D2E0-4A61-A7AD-812A73AD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43F2-4FAC-4470-8588-FF14BA25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3152-2E2E-4D0F-A286-AF0BCEA1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4CA0-AC16-48F9-97F0-BB47C161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E436A-2D63-4C36-8247-8C987518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7AB87-A331-457E-84BD-72DC5B0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F12D-8F31-4F31-9B2C-EF712A20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24132-FCE4-4A89-AD57-85E33389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BB6A-794A-4FF0-990A-6FF79B2E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F8C19-70BF-4C68-9CF4-8F8AB58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FB566-8A02-4687-A4B1-CEA0DDB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747E-E7F6-4E7D-9408-AC62E3C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1464-72BC-43EC-B312-66823788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98E6-2DD0-45C1-95F5-FACCC6C1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F61D3-C295-4E8D-81BB-94BF13A4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7C296-E09F-4294-B663-24D742DC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78342-805C-43F5-A9E6-4DFC067E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2CB20F-AF1E-4111-AAF7-B37DC0E1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59061-C725-438E-947F-DC69BF0B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7A173-44C2-48CA-A00B-90115076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21938D-5EA5-48A7-A69C-1E89BBA2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A92BF-4A41-47BD-8A96-70E0F70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57D46-436A-4738-B932-B6B4527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AC106-3135-438C-A089-4449E28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D5146-8C55-4A83-8719-B4C56C87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A568F-8056-4ACF-A4B5-AD7277F5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8C053-0E53-48E4-AC68-FE5800B1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EED0C-4AA7-4D3F-8085-F40F86A6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AE23A-A87D-4E1F-A25B-724F6E82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DEFFA-E0AC-452A-B274-5BAB3A25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919A-8FD3-4807-B7FD-63E51D3E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60F5-EDD0-4AD5-89CF-26559693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2588-2E7E-4E4A-977B-9DF4F99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FE64-655B-4645-843F-FC55E8C4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4D293-B824-496A-B494-ED30C555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4BBC-F27B-4A95-9755-7F97D33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7B64E-B0FA-4F15-B651-9C2198E2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2298-BE95-4A8E-A750-AF676D97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E469-9B65-4766-A4D1-4E894479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7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649296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Robinson-Wood. </a:t>
            </a:r>
            <a:r>
              <a:rPr b="0" i="1" lang="en-US" sz="800" spc="-1" strike="noStrike">
                <a:solidFill>
                  <a:srgbClr val="ffffff"/>
                </a:solidFill>
                <a:latin typeface="Tahoma"/>
              </a:rPr>
              <a:t>The Convergence of Race, Ethnicity, and Gender: Multiple Identities in Counseling, 4e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© 2013, 2009, 2005, 2000  by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5029200" y="6477120"/>
            <a:ext cx="7621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1-</a:t>
            </a:r>
            <a:fld id="{A9BD0DA8-63FD-4A2D-9371-64FCF9B6F9E6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7456-D691-4EAA-A3F0-8B7E256E2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DF68-572F-4B4F-AEFE-526D188C9C68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164C-AA51-401D-A1E7-B887BE20FEC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6397560"/>
            <a:ext cx="9145440" cy="46044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5" descr="Pearson_Bound_White"/>
          <p:cNvPicPr/>
          <p:nvPr/>
        </p:nvPicPr>
        <p:blipFill>
          <a:blip r:embed="rId2"/>
          <a:stretch/>
        </p:blipFill>
        <p:spPr>
          <a:xfrm>
            <a:off x="748836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4395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64395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992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0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0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1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da2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F7DD-C0D9-4A7B-82E6-DFCE80BDD3B0}" type="slidenum">
              <a:rPr b="0" lang="en-US" sz="1200" spc="-1" strike="noStrike">
                <a:solidFill>
                  <a:srgbClr val="2da2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9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9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0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7F7B-7B60-4D8E-8975-46C5B5F4453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eaf2"/>
            </a:gs>
            <a:gs pos="100000">
              <a:srgbClr val="7698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376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7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78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1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82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3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4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5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86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7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8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89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92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4DC8-7317-451F-BCBF-F9774F1AE4A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47960" y="304920"/>
            <a:ext cx="33130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hapter 7:</a:t>
            </a:r>
            <a:endParaRPr b="0" lang="en-US" sz="24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743360" y="2819160"/>
            <a:ext cx="3486240" cy="19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a2bf"/>
                </a:solidFill>
                <a:latin typeface="Century Gothic"/>
              </a:rPr>
              <a:t>People of African Descent</a:t>
            </a: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68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4716000" y="16002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ur Peo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Top 10 States Where Blacks Reside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New York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Florida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Georgia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Texas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California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Illinois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North Carolina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Maryland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Virginia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Louisiana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Marital statu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Blacks have higher rates of marital divorce, separation, and never-married rates compared with the population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Blacks have the lowest sex ratio with black females outnumbering black males throughout every decade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46.8% of Blacks 15 and older have never been married—compared to 28% of the general population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9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Intermarriag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termarriage has become more popular among black people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etween 2008 and 2010, the share of black newlyweds who intermarried increased from 15.5% to 17.1%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increase in the intermarriage rate among black newlyweds is slightly more pronounced among males than females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Non-family households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990720" y="23619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greatest percentage of Blacks live in non-family households—36.5%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poverty rate is 27.4%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re is also a growing middle-class.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Violence, Insurance, and Mental Health Treatment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90360" y="2362320"/>
            <a:ext cx="7010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Nearly 18% of blacks do not have health insuranc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lacks are 2.5 times more likely to fear mental health treatment compared to white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lack children are more likely to live in female headed households; 39% of black children live in poverty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08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a2bf"/>
                </a:solidFill>
                <a:latin typeface="Century Gothic"/>
              </a:rPr>
              <a:t>Incarceration and Health</a:t>
            </a:r>
            <a:endParaRPr b="0" lang="en-US" sz="32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In 2010, black men were more than 6 times as likely as white men to be incarcerated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Diabetes, heart disease, prostate cancer, HIV/AIDs, and infant mortality are higher among blacks than among white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1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Historical Contex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90360" y="21333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Between 500 and 1600 AD Africa had empires, governments, systems of trade in regions throughout the continent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majority of African Americans trace their ancestry to the slave trade</a:t>
            </a:r>
            <a:r>
              <a:rPr b="0" lang="en-US" sz="3600" spc="-1" strike="noStrike">
                <a:solidFill>
                  <a:srgbClr val="464646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4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Slave Tra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1619 is designated as the date when the first African settlers reached North America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Slavery was a barbaric institution supported by the government and often sanctioned by Christian and Catholic churche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The Middle Passage refers to the journey from Africa to the colonies, Europe, and Caribbean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s many as 2 million people perished at port, at sea, or upon arrival during the slave trade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17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The Slave Trad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 history of resistance and revolt characterize the African slave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mpact of slavery on Black people’s mental health can never be truly assessed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lavery was outlawed in Texas on June 19, 1865, also known as Juneteenth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0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The Constitution and African Americans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13</a:t>
            </a:r>
            <a:r>
              <a:rPr b="0" lang="en-US" sz="2600" spc="-1" strike="noStrike" baseline="30000">
                <a:solidFill>
                  <a:srgbClr val="464646"/>
                </a:solidFill>
                <a:latin typeface="Century Gothic"/>
              </a:rPr>
              <a:t>th</a:t>
            </a: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 Amendment made slavery illegal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 the same year the 13th Amendment was ratified, the Ku Klux Klan was organized in TN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ts purpose was to undermine racial equality through acts of terrorism, which often went unpunished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 some municipalities, political leaders were also Klan member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3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efini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t also includes respondents who reported entries such as African American; Sub-Saharan African entries, such as Kenyan and Nigerian; and Afro-Caribbean entries, such as Haitian and Jamaica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Jim Crow Law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Jim Crow was the name of the racial caste system which operated primarily in the south  and border states, between 1877 -1965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Under Jim Crow, blacks held second class citizen status: (e.g., sitting in back of the bus, drinking out of separate faucets, sitting in different sections of movie theatres). 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6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The Constitution and African Americans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14</a:t>
            </a:r>
            <a:r>
              <a:rPr b="0" lang="en-US" sz="2800" spc="-1" strike="noStrike" baseline="30000">
                <a:solidFill>
                  <a:srgbClr val="464646"/>
                </a:solidFill>
                <a:latin typeface="Century Gothic"/>
              </a:rPr>
              <a:t>th</a:t>
            </a: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 Amendment extended citizenship to African Americans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15</a:t>
            </a:r>
            <a:r>
              <a:rPr b="0" lang="en-US" sz="2800" spc="-1" strike="noStrike" baseline="30000">
                <a:solidFill>
                  <a:srgbClr val="464646"/>
                </a:solidFill>
                <a:latin typeface="Century Gothic"/>
              </a:rPr>
              <a:t>th</a:t>
            </a: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 Amendment ensured the right to vot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Poll taxes, grand father clauses, and literacy tests prevented blacks from voting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29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olorism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olorism is stereotypical attributions and prejudgments based on skin color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kin-color hue affects income, educational attainment, and perceptions of success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ppearance is not solely linked to skin color but to phenotypical traits such as body shape, facial features. hair length, texture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2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Educational Attainment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84% of Blacks over 25 have completed high school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19% of Blacks have completed a bachelor’s degree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a2bf"/>
                </a:solidFill>
                <a:latin typeface="Century Gothic"/>
              </a:rPr>
              <a:t>A Fraction Of Black Inventors</a:t>
            </a:r>
            <a:endParaRPr b="0" lang="en-US" sz="28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838080" y="2361960"/>
            <a:ext cx="7491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Benjamin Banneker: Pocket watch, Farmer’s Almanac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Janet Emerson Bashen: Patented software, LinkLine, a web-based app for EEO claims intake and tracking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Dr. Patricia Bath: 1988 patent for laser method to remove cataract lenses that transformed eye surgery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Dr. Philip Emeagwali: Supercomputer programmer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Dr. George Grant:1899 patent for improving golf tee. Invented the oblate palate, a prosthetic device for cleft palate treatment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Marjorie Joyner: Permanent wave machine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Garrett Morgan: Gas mask (used in WW1)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Cordell Reed: Developed improvements for nuclear electric power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  <a:p>
            <a:pPr marL="325800" indent="-259560">
              <a:spcBef>
                <a:spcPts val="4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Century Gothic"/>
              </a:rPr>
              <a:t>Dr. Daniel Hale Williams: Open Heart surgery in 1893. Founded Provident hospital, interracial hospital.</a:t>
            </a:r>
            <a:endParaRPr b="0" lang="en-US" sz="1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38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Resistance Theory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The goal is to empower stigmatized groups with optimal tools (not suboptimal) to: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ame, confront, repudiate, and replace dominant yet demeaning messages with knowledge of self and community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African American Racial Identity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ross (1991) theory of racial identity development called Nigrescence is the most widely used racial identity model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Cross distinguishes betwee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Personal Identity (PI)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Self-esteem and interpersonal competence</a:t>
            </a: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Reference Group Orientation (RGO)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Century Gothic"/>
              </a:rPr>
              <a:t>Racial identity and racial self-esteem</a:t>
            </a: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  <a:p>
            <a:pPr lvl="2" marL="914400" indent="-228600">
              <a:spcBef>
                <a:spcPts val="45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4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African American Racial Identity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Pre-encounter: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ssimilation, Miseducation, Racial Self-hatred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Encounter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mmersion and Emersio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ternalization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nternalization and Commitment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47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Pre-Encounter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Persons hold attitudes toward race that range from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low salience to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race neutrality to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nti-Black.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ace, as having low salience and anti-Black attitudes, differ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0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Pre-Encounter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With low salience, Blackness contributes little to people’s lives and little emphasis is given to i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Race as having low salience and anti-Black attitudes differ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Value is placed on religion, social status, career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ssimilation describes their experienc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efini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lack or African American refers to a person having origins in any of the Black racial groups of Africa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Black racial category includes people who marked the “Black, African Am., or Negro” checkbox.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5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Encounter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 person’s identity will defend itself against identity change, thus an encounter (or series of them) is needed to catch the person off-guard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It has to have powerful and important impact but it can be positive or negative and must be experienced and personalized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6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Immersion-Emers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During the first phase the person </a:t>
            </a:r>
            <a:r>
              <a:rPr b="0" i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immerses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 self in a sea of Blackness: literature, film, art, history, travel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person feels an overwhelming love and attachment to all that is black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ew converts can be blunt and confrontational in their communication with blacks and whites. 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59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Emers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second phase of this stage refers to the </a:t>
            </a:r>
            <a:r>
              <a:rPr b="0" i="1" lang="en-US" sz="2400" spc="-1" strike="noStrike" u="sng">
                <a:solidFill>
                  <a:srgbClr val="464646"/>
                </a:solidFill>
                <a:uFillTx/>
                <a:latin typeface="Century Gothic"/>
              </a:rPr>
              <a:t>emergence </a:t>
            </a: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from the emotionality and bifurcated view seen in immersio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romanticism and group think ideas are replaced with a more complex understanding of black issues.   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2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Internaliza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 new identity is internalized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High salience is given to Blackness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ationalists, biculturalists, and multiculturalists exist in this stag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re is more calm and inner peace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ultural Value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Black people are united by spiritual tradition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Historically the Black church has been a focal point in the African American community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Majority of blacks are Christians, but there are growing numbers of blacks who are Islamists, Buddhists, Jews, and agnostics.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ultural Value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Great diversity among people of African descent in country of origin, language, ethnicity, class, education, acculturation level, point of entry into America, and religion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There are common values that include spirituality, persistence, forgiveness, resistance, humor, wisdom, and resilienc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1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Cultural Values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Oral tradition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eliance on proverbial wisdom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Spirituality and faith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Firm child-rearing practice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Education as means of self-help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espect for elders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Extended family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Unity and cooperation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Resistance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Creativity, humor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  <a:p>
            <a:pPr lvl="1" marL="633240" indent="-270000">
              <a:lnSpc>
                <a:spcPct val="60000"/>
              </a:lnSpc>
              <a:spcBef>
                <a:spcPts val="64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Century Gothic"/>
              </a:rPr>
              <a:t>Fluid time orientation</a:t>
            </a:r>
            <a:endParaRPr b="0" lang="en-US" sz="26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4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Nguzo Saba (</a:t>
            </a:r>
            <a:r>
              <a:rPr b="0" lang="en-US" sz="1200" spc="-1" strike="noStrike">
                <a:solidFill>
                  <a:srgbClr val="2da2bf"/>
                </a:solidFill>
                <a:latin typeface="Century Gothic"/>
              </a:rPr>
              <a:t>Kwaanza Principles</a:t>
            </a: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)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Nguzo Saba – classical African values 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Umoja – unity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Kugichagalia – self-determination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Ujima – collective work and responsibility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Ujaama – cooperative economics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Nia - purpose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Kuumba - creativity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entury Gothic"/>
              </a:rPr>
              <a:t>Imani - faith</a:t>
            </a:r>
            <a:endParaRPr b="0" lang="en-US" sz="20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577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emographic Profil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frican Americans are 13.2% of the population with over 39 million people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Outside of the non-Hispanic white population, the black population had the smallest percentage growth between 2000 and 2010, growing by 4.3 million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The black population grew slower than most of the major racial group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Median age is about 9 years younger than non-Hispanic white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Demographic Profil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8% of all black people in the U.S. are foreign born, and hail from: 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Caribbean (Jamaica)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South America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Haiti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African Continent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The Black Immigrant Population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black immigrant population accounts for 8.7% of the U.S. black populatio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The black immigrant population is nearly triple their share in 1980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Black immigrants come from around the world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Century Gothic"/>
              </a:rPr>
              <a:t>Half of the black immigrant population comes from the Caribbean.</a:t>
            </a: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2da2bf"/>
                </a:solidFill>
                <a:latin typeface="Century Gothic"/>
              </a:rPr>
              <a:t>The Black Immigrant Population</a:t>
            </a:r>
            <a:endParaRPr b="0" lang="en-US" sz="36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Jamaica is the largest source country of the black immigrant population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bout 682,000 black immigrants come from Jamaica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Jamaica accounts for 18% of the U.S. black immigrant population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Haiti follows with 586,000 black immigrants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Haiti accounts for 15% of the U.S. black immigrant population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87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African Immigration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Much of the recent growth in the size of the black immigrant population is due to African immigration.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Between 2000 and 2013, the number of black African immigrants living in the U.S. rose 137%, from 574,000 to 1.4 million. 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64646"/>
                </a:solidFill>
                <a:latin typeface="Century Gothic"/>
              </a:rPr>
              <a:t>Africans now make up over one third (36%) of the total foreign-born black population, up from 24% in 2000 and 7% in 1980.</a:t>
            </a:r>
            <a:endParaRPr b="0" lang="en-US" sz="22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0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a2bf"/>
                </a:solidFill>
                <a:latin typeface="Century Gothic"/>
              </a:rPr>
              <a:t>Geographic Profile</a:t>
            </a:r>
            <a:endParaRPr b="0" lang="en-US" sz="4000" spc="-1" strike="noStrike">
              <a:solidFill>
                <a:srgbClr val="2da2bf"/>
              </a:solidFill>
              <a:latin typeface="Century Gothic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55% of blacks live in the south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18% reside in the mid-west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Nearly 17% reside in the northeast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2da2bf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Century Gothic"/>
              </a:rPr>
              <a:t>10% reside in the west.</a:t>
            </a:r>
            <a:endParaRPr b="0" lang="en-US" sz="2800" spc="-1" strike="noStrike">
              <a:solidFill>
                <a:srgbClr val="464646"/>
              </a:solidFill>
              <a:latin typeface="Century Gothic"/>
            </a:endParaRPr>
          </a:p>
        </p:txBody>
      </p:sp>
      <p:sp>
        <p:nvSpPr>
          <p:cNvPr id="493" name="Footer Placeholder 2"/>
          <p:cNvSpPr/>
          <p:nvPr/>
        </p:nvSpPr>
        <p:spPr>
          <a:xfrm>
            <a:off x="25146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 SAGE Publications, Inc. 201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acy Robinson-Wood</dc:creator>
  <dc:description/>
  <dc:language>en-US</dc:language>
  <cp:lastModifiedBy>Austin, Rebecca</cp:lastModifiedBy>
  <dcterms:modified xsi:type="dcterms:W3CDTF">2016-05-18T18:25:30Z</dcterms:modified>
  <cp:revision>60</cp:revision>
  <dc:subject/>
  <dc:title>Assessment In Early Childhood Education</dc:title>
</cp:coreProperties>
</file>