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C155-C776-47DE-80EA-36368E94E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8DBE-3184-47A3-9A63-2B7C83A92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713-A89F-4921-987B-2DDF2919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4CEA-F90C-4223-B5CB-992DE2B9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0653-4055-4B45-9E0A-E51D3B9F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E9B-B0A9-44C6-B303-545922E6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5339-6EE8-48CC-A6B3-9428EC8E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A625-0522-40CA-83D1-E4E212EA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03A7-CA5E-4572-837B-332C6287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FA45-444B-4746-BAF0-EBB9ACE9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0CB3-47A2-4726-A98A-75229F32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F6AE-DD78-4CB2-BBE7-A13FAFEB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B384-9EC8-42C0-8427-FDFFFDA3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22B2-6793-4A63-81C9-FD73CAD2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4BD2-0990-486E-8C6E-6EC76ECD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0F80-A658-452E-A2AC-B8909788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A805-77E4-4A1C-9609-91992EAB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38DC-E245-4995-B728-872219F3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1000-F9BA-4C81-A0FB-3DC77EFD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8BB5C3-A87B-487F-846F-3D10F08C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2AE1C-CD1D-4C56-A30B-5B358396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510DA-AA8E-41CF-AB86-18F5B72C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E9978-6118-4C0A-BD71-9684392D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FE3F5-FDF3-40FE-9C03-EAB79F8C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9A3-33C0-4E08-8906-E1FB77FC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F1ADD-AE99-4D4D-A6E3-85289439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2171B-7B7A-413D-ABE0-8E93283D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D97D75-C291-4696-95B9-655D4024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3E97F-F5F8-46EE-A81D-63DC5527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35F65-156F-46BA-9793-E1D06C1D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ECEE3D-1A5D-4D95-A29A-F2C25AA9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E6FFA-96EF-46D6-80C6-3F7C9490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0BFAB-26F3-402D-8196-48B87066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05BEF-83B0-452C-BEF7-F6A88A0F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9710D-A886-4FAE-B477-53871083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2094-351E-4CF8-8F00-E75B067E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74BAE-3D6D-4D32-9455-F0152F59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948B7-F41A-42AE-866D-53906076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3F2CD-25CD-412B-B556-F525C40E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B3498-E126-4A38-8896-24E5265E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B0976-753F-43E2-867E-BC70E209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FD57E-9B74-4CA3-AAC5-A8A644B3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73ED9-979A-48AF-B2E3-4E64DD7A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A5473-4EE6-4F32-AED5-BC0002C4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63F37-9679-49F0-B816-1A58394B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3FB4-CA73-4523-B613-60E0239B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68B9-C7DE-4E5A-87F9-E9570F8A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931-62BB-4857-AC84-81B71655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9F4-E9F4-4879-9C3D-3A9293D1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1C64-9329-41CA-A165-AC4D067F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AE7C-5B65-40FF-B4FE-222D22DD371A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da2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B328-7E86-4D5F-9A29-1E3DF82BDCFF}" type="slidenum">
              <a:rPr b="0" lang="en-US" sz="1200" spc="-1" strike="noStrike">
                <a:solidFill>
                  <a:srgbClr val="2da2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6D64-962F-46FA-8CFA-97B1C08549AF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FFA6-AA7B-4A15-93C3-53F45EE00CBF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23920" y="380520"/>
            <a:ext cx="3313080" cy="75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hapter 11: </a:t>
            </a:r>
            <a:endParaRPr b="0" lang="en-US" sz="24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24280" y="2819160"/>
            <a:ext cx="3353040" cy="10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a2bf"/>
                </a:solidFill>
                <a:latin typeface="Century Gothic"/>
              </a:rPr>
              <a:t>People of Jewish Descent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4745160" y="5410080"/>
            <a:ext cx="33112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24242"/>
                </a:solidFill>
                <a:latin typeface="Century Gothic"/>
              </a:rPr>
              <a:t>Created  by Tracy Robinson-Wood, 5th Edition, The Convergence of Race, Ethnicity, and Gender: Multiple  Identities in Counseling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716000" y="160020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Our Peo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Reform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re is less emphasis on commandments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re is emphasis on retaining values that are central to Judaism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rvice to others is primary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3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Conservative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64646"/>
                </a:solidFill>
                <a:latin typeface="Century Gothic"/>
              </a:rPr>
              <a:t>Conservative Judaism g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rew out of the tensions between Orthodoxy and Reform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onservative Jews believe God gave the Torah to the Jews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onservative Jews interpret God’s word within the context of both history and contemporary society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Reconstructionism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nded in America in 1922 by Rabbi Mordecai Kaplan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Reconstructionists believe that Judaism is an evolving religious civilization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y do not believe in a personified deity active in history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Reconstructionism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Reconstructionism introduced: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he idea of a Bat Mitzvah for girls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he idea of Jewish community centers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he idea of Havurot, which are small Jewish fellowships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82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Secular or Cultural Jews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ular or cultural Jews include people who say they have no religion but were raised Jewish or have a Jewish parent and who still identify as Jewish although not religiously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85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SHOAH (the Holocaust)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Over 6 million Jewish babies, children, and adult men and women were murdered (e.g., liquidated), during the Holocaust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Jews were not murdered because of their belief in Judaism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Jews were murdered because they had at least one grandparent who was a Jew, perhaps not even a religious Jew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88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SHOAH (the Holocaust)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Irrespective of their affiliation, Jews were not offered an option of conversion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Jewish children, in particular, were targeted for murder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3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3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3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3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3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Century Gothic"/>
              </a:rPr>
              <a:t>(Robinson, 2000).</a:t>
            </a:r>
            <a:endParaRPr b="0" lang="en-US" sz="1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3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1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The Immigration Act of 1924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 act enforced quotas by origin of country and provided immigration visas for 2% of the immigrant population according to the 1890 census rather than a later census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4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The Immigration Act of 1924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It was believed that the 1890 census “would change the character of immigration and hence of our future population by bringing a preponderance of immigration of the stock which originally settled this country” (Jacobson, 1998, p. 83)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7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The Immigration Act of 1924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More immigrants from Western Europe and England were included, which </a:t>
            </a: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decreased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the number of visas available to people (e.g., European Jews) from Eastern Europe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0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da2bf"/>
                </a:solidFill>
                <a:latin typeface="Century Gothic"/>
              </a:rPr>
              <a:t>The  American Jewr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64646"/>
                </a:solidFill>
                <a:latin typeface="Century Gothic"/>
              </a:rPr>
              <a:t>Ashkenazi</a:t>
            </a:r>
            <a:r>
              <a:rPr b="0" lang="en-GB" sz="2400" spc="-1" strike="noStrike">
                <a:solidFill>
                  <a:srgbClr val="464646"/>
                </a:solidFill>
                <a:latin typeface="Century Gothic"/>
              </a:rPr>
              <a:t>: Descendents of Jews from German, France, and Eastern Europe Ancestry (largest group in America)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64646"/>
                </a:solidFill>
                <a:latin typeface="Century Gothic"/>
              </a:rPr>
              <a:t>Sephardic</a:t>
            </a:r>
            <a:r>
              <a:rPr b="0" lang="en-GB" sz="2400" spc="-1" strike="noStrike">
                <a:solidFill>
                  <a:srgbClr val="464646"/>
                </a:solidFill>
                <a:latin typeface="Century Gothic"/>
              </a:rPr>
              <a:t>: Descendents of Jews from Spain, Portuguese, North Africa, and Middle-Eastern ancestry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64646"/>
                </a:solidFill>
                <a:latin typeface="Century Gothic"/>
              </a:rPr>
              <a:t>Mizrachi:</a:t>
            </a:r>
            <a:r>
              <a:rPr b="0" lang="en-GB" sz="2400" spc="-1" strike="noStrike">
                <a:solidFill>
                  <a:srgbClr val="464646"/>
                </a:solidFill>
                <a:latin typeface="Century Gothic"/>
              </a:rPr>
              <a:t> Descendants of Jews from North Africa and the Middle Eas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49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U.S. Jewish Population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If secular or cultural Jews are counted then the estimate of Jews in America grows to 2.2% of American adults, or about 5.3 million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3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2da2bf"/>
                </a:solidFill>
                <a:latin typeface="Century Gothic"/>
              </a:rPr>
              <a:t>Geography And Jewish Americans </a:t>
            </a:r>
            <a:endParaRPr b="0" lang="en-US" sz="31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Northeast: 43%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outh: 23%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West: 23%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Mid-West: 11%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6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a2bf"/>
                </a:solidFill>
                <a:latin typeface="Century Gothic"/>
              </a:rPr>
              <a:t>Jewish Inhabitants by City</a:t>
            </a:r>
            <a:endParaRPr b="0" lang="en-US" sz="28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New York City, NY:  750,000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Miami, Florida: 535,000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Los Angeles, CA: 490,000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Philadelphia, Pennsylvania: 350,000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hicago, Illinois: 248, 000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9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Meaning of Being Jewish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 Pew Research Center found generational differences with respect to the importance attached to caring about Israel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Among Jews who were 65 and older, 53% stated that caring about Israel is essential to what being Jewish means to them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2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Meaning of Being Jewish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Among Jews under age 30, 32% expressed this view with respect to the importance attached to caring about Israel. 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Compared to younger Jews, older Jews are more likely to say remembering the Holocaust, working for justice and equality in society, and having a good sense of humor are essential to their Jewish identity.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64646"/>
                </a:solidFill>
                <a:latin typeface="Century Gothic"/>
              </a:rPr>
              <a:t>Source: Pew Research Center Survey of U.S. Jews, 2013.</a:t>
            </a:r>
            <a:endParaRPr b="0" lang="en-US" sz="13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5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Meaning of Being Jewish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Among Jews with no denominational affiliation, 31% said caring about Israel is essential to their Jewish identity. 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Jewish law: Essential to meaning of being Jewish: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476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Century Gothic"/>
              </a:rPr>
              <a:t>79% of Orthodox Jews agreed</a:t>
            </a:r>
            <a:endParaRPr b="0" lang="en-US" sz="19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476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Century Gothic"/>
              </a:rPr>
              <a:t>24% of Conservative Jews agreed</a:t>
            </a:r>
            <a:endParaRPr b="0" lang="en-US" sz="19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476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Century Gothic"/>
              </a:rPr>
              <a:t>11% of Reform Jews agreed</a:t>
            </a:r>
            <a:endParaRPr b="0" lang="en-US" sz="19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476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46"/>
                </a:solidFill>
                <a:latin typeface="Century Gothic"/>
              </a:rPr>
              <a:t>8% of Jews with no denominational affiliation agreed </a:t>
            </a:r>
            <a:endParaRPr b="0" lang="en-US" sz="19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8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Education and Income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Most Jews have high levels of educational attainment: 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58% are college graduates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28% have earned a postgraduate degree. 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ne quarter of Jews (25%) say they have a household income exceeding $150,000 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ompared with 8% of adults in the public.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21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Education and Income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y contrast, 20% of U.S. Jews report household incomes of less than $30,000 per year.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About 6 in 10 Jews in this low-income category are either under age 30 or 65 or older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24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a2bf"/>
                </a:solidFill>
                <a:latin typeface="Century Gothic"/>
              </a:rPr>
              <a:t>2010 Income by Racial Group</a:t>
            </a:r>
            <a:endParaRPr b="0" lang="en-US" sz="32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Asians: $64,308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Blacks: $32,608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Latinos: $37,759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Whites: $54,62 (inclusive of people who identify as Jewish)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27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Discourses About Jews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alculating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Miserly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Pushy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Greedy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Entitled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Wealthy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0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en-US" sz="3600" spc="-1" strike="noStrike">
                <a:solidFill>
                  <a:srgbClr val="2da2bf"/>
                </a:solidFill>
                <a:latin typeface="Century Gothic"/>
              </a:rPr>
              <a:t> </a:t>
            </a:r>
            <a:br>
              <a:rPr sz="3600"/>
            </a:br>
            <a:r>
              <a:rPr b="0" lang="en-GB" sz="3600" spc="-1" strike="noStrike">
                <a:solidFill>
                  <a:srgbClr val="2da2bf"/>
                </a:solidFill>
                <a:latin typeface="Century Gothic"/>
              </a:rPr>
              <a:t> </a:t>
            </a:r>
            <a:r>
              <a:rPr b="0" lang="en-GB" sz="3600" spc="-1" strike="noStrike">
                <a:solidFill>
                  <a:srgbClr val="2da2bf"/>
                </a:solidFill>
                <a:latin typeface="Century Gothic"/>
              </a:rPr>
              <a:t>Select Hebrew Terms</a:t>
            </a:r>
            <a:r>
              <a:rPr b="0" i="1" lang="en-GB" sz="3600" spc="-1" strike="noStrike">
                <a:solidFill>
                  <a:srgbClr val="2da2bf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64646"/>
                </a:solidFill>
                <a:latin typeface="Century Gothic"/>
              </a:rPr>
              <a:t>Mitzvot</a:t>
            </a:r>
            <a:r>
              <a:rPr b="0" i="1" lang="en-US" sz="2400" spc="-1" strike="noStrike">
                <a:solidFill>
                  <a:srgbClr val="464646"/>
                </a:solidFill>
                <a:latin typeface="Century Gothic"/>
              </a:rPr>
              <a:t>: 613 L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aws dictated by God to Moses on Mount Sinai concerning all aspects of life. Orthodox Jews seek to strictly follow these, including dietary laws and honoring the Sabbath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Mekhitza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: A divider in the synagogue that separates men and women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464646"/>
                </a:solidFill>
                <a:latin typeface="Century Gothic"/>
              </a:rPr>
              <a:t>Halakah</a:t>
            </a:r>
            <a:r>
              <a:rPr b="0" lang="en-GB" sz="2400" spc="-1" strike="noStrike">
                <a:solidFill>
                  <a:srgbClr val="464646"/>
                </a:solidFill>
                <a:latin typeface="Century Gothic"/>
              </a:rPr>
              <a:t>: Jewish law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2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Discourses About Jews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White</a:t>
            </a:r>
            <a:br>
              <a:rPr sz="2400"/>
            </a:b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Jewish-looking (curly dark hair, brown eyes, Jewish nose)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Non-ethnic minority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Jewish Nationalism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Religious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In-charge, powerfu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3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Health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It is estimated that nearly one in two Ashkenazi Jews in the U.S. is a carrier of at least 1 of 38 Jewish genetic diseases.</a:t>
            </a: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re is no single preconception carrier-screening panel for people of Sephardic or Mizrahi background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6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2da2b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2da2bf"/>
                </a:solidFill>
                <a:latin typeface="Century Gothic"/>
              </a:rPr>
              <a:t>Values Among Jewish People </a:t>
            </a: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	</a:t>
            </a:r>
            <a:br>
              <a:rPr sz="3600"/>
            </a:br>
            <a:r>
              <a:rPr b="0" lang="en-US" sz="1800" spc="-1" strike="noStrike">
                <a:solidFill>
                  <a:srgbClr val="2da2bf"/>
                </a:solidFill>
                <a:latin typeface="Century Gothic"/>
              </a:rPr>
              <a:t>(Values may be Movement relevant</a:t>
            </a:r>
            <a:r>
              <a:rPr b="0" lang="en-US" sz="2000" spc="-1" strike="noStrike">
                <a:solidFill>
                  <a:srgbClr val="2da2b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he Centrality of Modern Israel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Hebrew: The Irreplaceable Language of Jewish Expression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Devotion to the ideal of </a:t>
            </a:r>
            <a:r>
              <a:rPr b="0" i="1" lang="en-US" sz="2800" spc="-1" strike="noStrike">
                <a:solidFill>
                  <a:srgbClr val="464646"/>
                </a:solidFill>
                <a:latin typeface="Century Gothic"/>
              </a:rPr>
              <a:t>Klal Yisrae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he Defining Role of Torah in the Reshaping of Judaism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he Study of Torah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9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he Governance of Jewish Life by </a:t>
            </a:r>
            <a:r>
              <a:rPr b="0" i="1" lang="en-US" sz="2800" spc="-1" strike="noStrike">
                <a:solidFill>
                  <a:srgbClr val="464646"/>
                </a:solidFill>
                <a:latin typeface="Century Gothic"/>
              </a:rPr>
              <a:t>Halakha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39480" indent="-27036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Faith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39480" indent="-27036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Belief in God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39480" indent="-27036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Humor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39480" indent="-27036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Remembrance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39480" indent="-27036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High Holidays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39480" indent="-27036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1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2da2b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2da2bf"/>
                </a:solidFill>
                <a:latin typeface="Century Gothic"/>
              </a:rPr>
              <a:t>Values Among Jewish People </a:t>
            </a: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	</a:t>
            </a:r>
            <a:br>
              <a:rPr sz="3600"/>
            </a:br>
            <a:r>
              <a:rPr b="0" lang="en-US" sz="1800" spc="-1" strike="noStrike">
                <a:solidFill>
                  <a:srgbClr val="2da2bf"/>
                </a:solidFill>
                <a:latin typeface="Century Gothic"/>
              </a:rPr>
              <a:t>(Values may be Movement relevant</a:t>
            </a:r>
            <a:r>
              <a:rPr b="0" lang="en-US" sz="2000" spc="-1" strike="noStrike">
                <a:solidFill>
                  <a:srgbClr val="2da2b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Educational Attainment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Social Justice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Honoring Tradition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Progress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Communication Patterns Influenced by Authority, Age, and Gender (Orthodoxy)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Simple Burial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4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2da2b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2da2bf"/>
                </a:solidFill>
                <a:latin typeface="Century Gothic"/>
              </a:rPr>
              <a:t>Values Among Jewish People </a:t>
            </a: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	</a:t>
            </a:r>
            <a:br>
              <a:rPr sz="3600"/>
            </a:br>
            <a:r>
              <a:rPr b="0" lang="en-US" sz="1800" spc="-1" strike="noStrike">
                <a:solidFill>
                  <a:srgbClr val="2da2bf"/>
                </a:solidFill>
                <a:latin typeface="Century Gothic"/>
              </a:rPr>
              <a:t>(Values may be Movement relevant</a:t>
            </a:r>
            <a:r>
              <a:rPr b="0" lang="en-US" sz="2000" spc="-1" strike="noStrike">
                <a:solidFill>
                  <a:srgbClr val="2da2bf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en-US" sz="3600" spc="-1" strike="noStrike">
                <a:solidFill>
                  <a:srgbClr val="2da2bf"/>
                </a:solidFill>
                <a:latin typeface="Century Gothic"/>
              </a:rPr>
              <a:t> </a:t>
            </a:r>
            <a:br>
              <a:rPr sz="3600"/>
            </a:br>
            <a:r>
              <a:rPr b="0" lang="en-GB" sz="3600" spc="-1" strike="noStrike">
                <a:solidFill>
                  <a:srgbClr val="2da2bf"/>
                </a:solidFill>
                <a:latin typeface="Century Gothic"/>
              </a:rPr>
              <a:t> </a:t>
            </a:r>
            <a:r>
              <a:rPr b="0" lang="en-GB" sz="3600" spc="-1" strike="noStrike">
                <a:solidFill>
                  <a:srgbClr val="2da2bf"/>
                </a:solidFill>
                <a:latin typeface="Century Gothic"/>
              </a:rPr>
              <a:t>Select Hebrew Terms</a:t>
            </a:r>
            <a:r>
              <a:rPr b="0" i="1" lang="en-GB" sz="3600" spc="-1" strike="noStrike">
                <a:solidFill>
                  <a:srgbClr val="2da2bf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Torah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: First five books of the Bible: Genesis, Exodus, Leviticus, Numbers, and Deuteronomy</a:t>
            </a:r>
            <a:r>
              <a:rPr b="0" i="1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64646"/>
                </a:solidFill>
                <a:latin typeface="Century Gothic"/>
              </a:rPr>
              <a:t>Haskalah</a:t>
            </a:r>
            <a:r>
              <a:rPr b="0" i="1" lang="en-US" sz="2400" spc="-1" strike="noStrike">
                <a:solidFill>
                  <a:srgbClr val="464646"/>
                </a:solidFill>
                <a:latin typeface="Century Gothic"/>
              </a:rPr>
              <a:t>: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Jewish Enlightenment</a:t>
            </a:r>
            <a:r>
              <a:rPr b="0" i="1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64646"/>
                </a:solidFill>
                <a:latin typeface="Century Gothic"/>
              </a:rPr>
              <a:t>Yarmulkes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—Yiddish word for skullcap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Century Gothic"/>
              </a:rPr>
              <a:t>H</a:t>
            </a:r>
            <a:r>
              <a:rPr b="1" i="1" lang="en-US" sz="2400" spc="-1" strike="noStrike">
                <a:solidFill>
                  <a:srgbClr val="464646"/>
                </a:solidFill>
                <a:latin typeface="Century Gothic"/>
              </a:rPr>
              <a:t>avurah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: or Jewish fellowships and prayer groups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5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First Jews in America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 first Jews to arrive, however, in what would eventually become America were Sephardic and traced their ancestry to Spain and Portugal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8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da2bf"/>
                </a:solidFill>
                <a:latin typeface="Century Gothic"/>
              </a:rPr>
              <a:t>Main Jewish Sects/Movements</a:t>
            </a:r>
            <a:endParaRPr b="0" lang="en-US" sz="32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64646"/>
                </a:solidFill>
                <a:latin typeface="Century Gothic"/>
              </a:rPr>
              <a:t>Orthodoxy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64646"/>
                </a:solidFill>
                <a:latin typeface="Century Gothic"/>
              </a:rPr>
              <a:t>Reform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64646"/>
                </a:solidFill>
                <a:latin typeface="Century Gothic"/>
              </a:rPr>
              <a:t>Conservatism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64646"/>
                </a:solidFill>
                <a:latin typeface="Century Gothic"/>
              </a:rPr>
              <a:t>Reconstructionism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da2bf"/>
                </a:solidFill>
                <a:latin typeface="Century Gothic"/>
              </a:rPr>
              <a:t>Orthodoxy</a:t>
            </a:r>
            <a:endParaRPr b="0" lang="en-US" sz="28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64646"/>
                </a:solidFill>
                <a:latin typeface="Century Gothic"/>
              </a:rPr>
              <a:t>Orthodox Jews seek to follow </a:t>
            </a:r>
            <a:r>
              <a:rPr b="1" lang="en-GB" sz="2400" spc="-1" strike="noStrike">
                <a:solidFill>
                  <a:srgbClr val="464646"/>
                </a:solidFill>
                <a:latin typeface="Century Gothic"/>
              </a:rPr>
              <a:t>traditional</a:t>
            </a:r>
            <a:r>
              <a:rPr b="0" lang="en-GB" sz="2400" spc="-1" strike="noStrike">
                <a:solidFill>
                  <a:srgbClr val="464646"/>
                </a:solidFill>
                <a:latin typeface="Century Gothic"/>
              </a:rPr>
              <a:t> laws that were given to Moses on Mt. Sinai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64646"/>
                </a:solidFill>
                <a:latin typeface="Century Gothic"/>
              </a:rPr>
              <a:t>Included are: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Gothic"/>
              </a:rPr>
              <a:t>The 613 Mitzvot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Gothic"/>
              </a:rPr>
              <a:t>Observing the Sabbath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Gothic"/>
              </a:rPr>
              <a:t>Dietary laws 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4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da2bf"/>
                </a:solidFill>
                <a:latin typeface="Century Gothic"/>
              </a:rPr>
              <a:t>Orthodoxy</a:t>
            </a:r>
            <a:endParaRPr b="0" lang="en-US" sz="28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64646"/>
                </a:solidFill>
                <a:latin typeface="Century Gothic"/>
              </a:rPr>
              <a:t>Orthodox Jews seek to follow </a:t>
            </a:r>
            <a:r>
              <a:rPr b="1" lang="en-GB" sz="2600" spc="-1" strike="noStrike">
                <a:solidFill>
                  <a:srgbClr val="464646"/>
                </a:solidFill>
                <a:latin typeface="Century Gothic"/>
              </a:rPr>
              <a:t>traditional</a:t>
            </a:r>
            <a:r>
              <a:rPr b="0" lang="en-GB" sz="2600" spc="-1" strike="noStrike">
                <a:solidFill>
                  <a:srgbClr val="464646"/>
                </a:solidFill>
                <a:latin typeface="Century Gothic"/>
              </a:rPr>
              <a:t> laws that were given to Moses on Mt. Sinai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3240" indent="-2700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In most Orthodox services, men and women sit separately in the synagogue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3240" indent="-2700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y are separated by a divider called a </a:t>
            </a:r>
            <a:r>
              <a:rPr b="0" i="1" lang="en-US" sz="2600" spc="-1" strike="noStrike">
                <a:solidFill>
                  <a:srgbClr val="000000"/>
                </a:solidFill>
                <a:latin typeface="Century Gothic"/>
              </a:rPr>
              <a:t>mekhitza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3240" indent="-27000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 service is conducted primarily in Hebrew. 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39480" indent="-27036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7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Reform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Reform Judaism does not believe the Torah was written by God.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Reform Jews accept the Bible as written by separate sources.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here is greater flexibility regarding personal observance.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0" name="Footer Placeholder 6"/>
          <p:cNvSpPr/>
          <p:nvPr/>
        </p:nvSpPr>
        <p:spPr>
          <a:xfrm>
            <a:off x="2909880" y="6486480"/>
            <a:ext cx="283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3:26:48Z</dcterms:created>
  <dc:creator>tr.robinson-wood</dc:creator>
  <dc:description/>
  <dc:language>en-US</dc:language>
  <cp:lastModifiedBy>Austin, Rebecca</cp:lastModifiedBy>
  <dcterms:modified xsi:type="dcterms:W3CDTF">2016-03-23T20:06:30Z</dcterms:modified>
  <cp:revision>33</cp:revision>
  <dc:subject/>
  <dc:title>Understanding Culture and Divers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33</vt:lpwstr>
  </property>
</Properties>
</file>