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B9B-5FD1-4AB9-8325-2B6E4D39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8A3-D2DE-4CA4-BBF2-39AC7A6A50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FCC-E078-453B-BDDC-A322B6077E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7EB-D25F-4C08-932D-351E7B0D84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EE62-43C8-4B66-880E-1580A2963D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5BAC-6D47-43D9-8918-6968CC7121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4CEF-2676-45FA-AF68-A23A034B00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4017-0E06-475C-BC1D-3FF9DF6BDB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A8B6-744C-4702-9C5A-7AD11F67BF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D94-2B6F-411B-84A9-7A06E043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CCE-7525-40CB-A632-07062F2C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33A-CCE8-443F-A18E-A734725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68E-58C3-4E51-81EB-4CDFF925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212-0CB7-4ED6-97E3-C787870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091-B5BC-4548-99A6-D4693EC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005-FF08-4B00-93DA-25DBF3BF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39C-A5AA-49B0-8390-161EE92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343-B709-4E1A-86F0-2588A75B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2F8-FD1B-4772-9917-74877FD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CCB-1619-4AC1-9D16-0A16F563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C96-9CCD-4215-907E-2486542D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4BCC-BFB5-4CE2-ABA9-6231FE9E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E003-F012-4A1B-9530-24438106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9F00-5713-4186-8B01-D4B0B1B1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B519-1645-4A1D-A284-A09C91A3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D31C-E76F-4997-8E5B-FD82349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1B03-7464-4A52-BE9F-6928E75A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DEE-5A36-4FC5-8CC6-B7B804E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9A41-EC7E-4FF3-89F2-6EFE5ABE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BE38-AA28-491A-B365-987E583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972B-D042-4918-ABD3-3D8AD918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7D4-5FEE-4089-BDC4-5A8D82E5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46E-073D-4419-AC7B-9F259096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BB14-2336-4716-9677-AEB36CFF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CFE0-CF38-466B-919F-8726B01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7972-DA31-4B5D-8A5D-419783DD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B4FB-749F-41CF-9A1F-E67BFC1B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5201-9B39-469E-8BF6-E7B556F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A547-9E2F-410B-BE10-21BB70A6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BA9A-9CA1-4F47-A614-6A99739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625B-ADB1-4E1A-AED4-3F7AD9C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408D-704E-402C-B381-006D3E8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CB7CC-5B78-4CBA-B63D-89F13AF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8B75-D028-491D-8F0E-D63C0A0C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E3CA-500E-403F-8DB3-BBD4FD27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D83AA-9F06-4D89-BD2A-A569EEC8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E4A8C-68C5-442E-8CB3-CFE2B8E3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DAE62-D4C9-47C4-A1C2-A4C1151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013DA-3A9B-49CC-8023-0B7F1690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0F6F5-4808-4C9F-A34E-D639F77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4E990-D072-45C6-8ABE-48D0EDBB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082BA-CF0C-46C2-9B77-C39CBBB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B4C43-3C04-4286-9602-A62C9CB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1AE30-4299-439E-B4A7-FC1D1F6C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68F9F-F904-415B-9F1A-9B9AACAA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01EC9-211B-434D-AB52-DFA49A98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1051C-2C0A-4283-AE25-5C6BA95B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DF4C-298B-468F-B588-0E44E3E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7B41-93E6-4CAC-9747-58FB885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055AF-9503-45F1-8EE8-45FE811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DDBFD-13C1-433E-ADDD-092072E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B3B7-219F-4770-9F63-1DE8834E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69621-8A05-496E-A31D-9EE48E62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119A-EEFE-4654-9608-0865E42E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84E5-F322-4677-8A8D-262724E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5622-47B0-44F2-883E-FCBF2246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09387-E901-45FF-B1EC-B93D2E02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76232-D7B8-4FFE-AA8B-56F6BB66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F7AD-B8AF-4287-B4CA-8918682D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7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64929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Robinson-Wood. </a:t>
            </a:r>
            <a:r>
              <a:rPr b="0" i="1" lang="en-US" sz="800" spc="-1" strike="noStrike">
                <a:solidFill>
                  <a:srgbClr val="ffffff"/>
                </a:solidFill>
                <a:latin typeface="Tahoma"/>
              </a:rPr>
              <a:t>The Convergence of Race, Ethnicity, and Gender: Multiple Identities in Counseling, 4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© 2013, 2009, 2005, 2000  by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5029200" y="6477120"/>
            <a:ext cx="762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1-</a:t>
            </a:r>
            <a:fld id="{5BB4A44A-036C-4344-B8E5-A9410F8343DC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782-0A3C-44AD-8B1A-ED889A880C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AC1-83CC-4B92-8E1C-C77A4D56280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79C6-A9F0-4F63-B610-B5F0FA86228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0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D40B-EDE4-4D9C-9E50-A96502A95393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284-0BA0-439F-9F71-AFB6743F555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6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7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78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82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86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8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9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5C6C-0D23-40BF-923C-D91D708354F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724280" y="304920"/>
            <a:ext cx="236232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12: 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800240" y="2971440"/>
            <a:ext cx="3048120" cy="12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a2bf"/>
                </a:solidFill>
                <a:latin typeface="Century Gothic"/>
              </a:rPr>
              <a:t>Converging Ra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745160" y="5410080"/>
            <a:ext cx="3311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242"/>
                </a:solidFill>
                <a:latin typeface="Century Gothic"/>
                <a:ea typeface="Arial"/>
              </a:rPr>
              <a:t>Created  by Tracy Robinson-Wood, 5th Edition, The Convergence of Race, Ethnicity, and Gender: Multiple  Identities in Counseling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1"/>
          <p:cNvSpPr/>
          <p:nvPr/>
        </p:nvSpPr>
        <p:spPr>
          <a:xfrm>
            <a:off x="4631040" y="16002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ging Ident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rdipithecus Group</a:t>
            </a: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arliest humans and homo sapiens’ closest link to other primat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b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Orrorin tugenensi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about 6.2-5.8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ast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2001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rdipithe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arliest humans and homo sapiens’ closest link to other primat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Ardipithecus kadobb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about 6.2 to 5.8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ast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2001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rdipithe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arliest humans and homo sapiens’ closest link to other primat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d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Ardipithecus ramidu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about 4.4 million years ago in Ethiopia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thiopi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 : Smithsonian (2015i).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ustralopithi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pecies that walked up-right regularly and still climbed tre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b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Australopithicus afarensi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3.85 to 2.95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ast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found in 1994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ustralopithi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pecies that walked up-right regularly and still climbed tree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any scientists believe that the direct ancestor of our genus is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Australopithecus afarensi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lthough in the hominin family, but not in the genus homo or the species, sapie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Known as "Lucy"  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ustralopithi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pecies that walked up-right regularly and still climbed tre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Australopithicus africanu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3.3 to 2.1million 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South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found in 1924  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Century Gothic"/>
              </a:rPr>
              <a:t>Source : Smithsonian (2015i).</a:t>
            </a: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ustralopithic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pecies that walked up-right regularly and still climbed tre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d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Australopithicus garhi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2.5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thiopi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found in 1990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 : Smithsonian (2015i).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Paranthrop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pecies with both ape and human features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Had large teeth and powerful jaws enabling these early humans to feed on a variety of foods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a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Paranthropus aethiopicu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2.7 to 2.3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East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1967. 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Paranthrop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pecies with both ape and human feature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.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Paranthropus boisei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2.3 to 1.2 million years ago in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Ethiopia and East Africa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ssils were discovered in 1959. 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 : Smithsonian (2015i).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Paranthropus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142640" y="243828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pecies with both ape and human features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Had large teeth and powerful jaws enabling these early humans to feed on a variety of foods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b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Paranthropus robustu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1.8 to 1.2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South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1938. 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64646"/>
                </a:solidFill>
                <a:latin typeface="Century Gothic"/>
              </a:rPr>
              <a:t>Source : Smithsonian (2015i).</a:t>
            </a: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e7f0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The Social Construction of Rac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ace functions as a master status in society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ace labeling is a function of phenotype and skin color characteristics that work to assign people to categories that are caste like in natur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ace typically refers to skin color, hair type, skin hue, eye color, stature, body size, nose, eyes, and head shap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habil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about 2.4 million to 1.4 million years ago in eastern and southern Africa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Homo habilis is one of the earliest members of the genus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Homo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found in Olduvai Gorge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Tanzani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rudolfensi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from 1.9 to 1.8 million years ago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ssil was found in the Lake Turkana basin,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Kenya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in 1986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Erectu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is sometimes called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ergaster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Erectu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from 1.89 million to 143, 000 years ago in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Northern, eastern, and southern Africa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Western Asia (Dmanisi, Republic of Georgia)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ast Asia (China and Indonesia)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ssils were found in 1891 in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Indonesia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. 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heidelbergens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in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urop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ossibly in China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astern and southern Africa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heidelbergens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about 700,000 to 200,000 years ago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heidelbergens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fossils were found in Germany in 1908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 was the first early human to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ive in colder climate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were the first to routinely hunt large animals, build shelters, and create dwellings out of wood and rock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Neanderthal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400,000 to 40,000 years ago in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urope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Southwestern to central Asia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first discovered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Belgium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in 1829.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: Smithsonian (2015)</a:t>
            </a:r>
            <a:r>
              <a:rPr b="0" i="1" lang="en-US" sz="1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Neanderthali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400,000 to 40,000 year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are the first to be known to make symbolic and ornamental object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are also the first to be known to bury their dead and marked graves with flower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224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: Smithsonian (2015)</a:t>
            </a:r>
            <a:r>
              <a:rPr b="0" i="1" lang="en-US" sz="1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Floresiensis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ere discovered in 2003 in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Flores, Indonesia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are believed to have lived from 95,000 to 17,000 years ago.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: Smithsonian (2015)</a:t>
            </a:r>
            <a:r>
              <a:rPr b="0" i="1" lang="en-US" sz="1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omo Group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Homo sapien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lived from 200,000 years ago to the presen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2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4646"/>
                </a:solidFill>
                <a:latin typeface="Century Gothic"/>
              </a:rPr>
              <a:t>Source: Smithsonian (2015)</a:t>
            </a:r>
            <a:r>
              <a:rPr b="0" i="1" lang="en-US" sz="1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 a survey conducted by the Kaiser Family Foundation, 12% of blacks and 15% of Latinos, compared with 1% of whites, felt that a doctor or health care provider would judge them unfairly or treat them with disrespect because of their race or ethnic background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Century Gothic"/>
              </a:rPr>
              <a:t>Source: (U.S. DHHS, 2001)</a:t>
            </a: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The Social Construction of Rac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ace and ethnicity discourses affect the nature of people’s daily experience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ttitudes about race were pivotal to the creation of a social structure in which institutional policy bestowed privilege and conferred disadvantage on persons due to skin color and race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is a climate of mistrust around race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ow-income black families are often stigmatized 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s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isorganized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az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eprived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f students and mental health professionals do  not challenge themselves to grow and think critically, although they have taken the required graduate-level cross-cultural diversity course, there may be resistance to broaching race/racism and other sensitive topic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acial identity theory assumes that individuals at initial levels of development have the potential to change over time as they encounter dissonance to existing cognitive schema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mplications for Mental Health Professional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A tenet of racial identity development is the importance of and a search for racial and cultural understanding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ace and Scienc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914400" y="1981080"/>
            <a:ext cx="69343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widely held belief in the biological differences between racial groups is simply incorrec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scientific case for the nonexistence of human race is overwhelming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Race and Scienc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recently completed Human Genome Sequencing Project has confirmed what scientists have known for a very long tim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umans do not fit into the biological criteria that define race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1870 Censu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s early as 1870, the U.S. Bureau of the Census divided the U.S. population into five races: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White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olored (black)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olored (mulatto)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Chinese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Indian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Origins of Racial Group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greement among reputable scientists is that the color of primitive humans was Black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arly humans are thought to have been of small statur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were probably from four and a half to five feet tall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Origins of Racial Group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Given the origins of humans is Black, the White race is a function of pigmentation lost over tim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arker skin was not needed in cold environment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0" name="Footer Placeholder 6"/>
          <p:cNvSpPr/>
          <p:nvPr/>
        </p:nvSpPr>
        <p:spPr>
          <a:xfrm>
            <a:off x="2909880" y="6553080"/>
            <a:ext cx="283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2da2bf"/>
                </a:solidFill>
                <a:uFillTx/>
                <a:latin typeface="Century Gothic"/>
              </a:rPr>
              <a:t>Ardipithecus Group</a:t>
            </a: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: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Earliest humans and homo sapiens’ closest link to other primates.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a. </a:t>
            </a:r>
            <a:r>
              <a:rPr b="0" i="1" lang="en-US" sz="2000" spc="-1" strike="noStrike">
                <a:solidFill>
                  <a:srgbClr val="464646"/>
                </a:solidFill>
                <a:latin typeface="Century Gothic"/>
              </a:rPr>
              <a:t>Sahelanthropus tchadensis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 lived about 6 to 7 million years ago in </a:t>
            </a:r>
            <a:r>
              <a:rPr b="1" lang="en-US" sz="2000" spc="-1" strike="noStrike">
                <a:solidFill>
                  <a:srgbClr val="464646"/>
                </a:solidFill>
                <a:latin typeface="Century Gothic"/>
              </a:rPr>
              <a:t>West and Central Africa</a:t>
            </a: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.  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Fossils were discovered in 2001.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 Robinson-Wood</dc:creator>
  <dc:description/>
  <dc:language>en-US</dc:language>
  <cp:lastModifiedBy>Austin, Rebecca</cp:lastModifiedBy>
  <dcterms:modified xsi:type="dcterms:W3CDTF">2016-03-23T20:07:00Z</dcterms:modified>
  <cp:revision>58</cp:revision>
  <dc:subject/>
  <dc:title>Assessment In Early Childhood Education</dc:title>
</cp:coreProperties>
</file>