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F65A-924E-455C-A437-D97F8021B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9C88-0A5F-45C3-AD3A-C60C264E29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160-7326-4868-BA3E-4F3BBE11AA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0EAA-5F0E-4C76-A418-7585FDE97B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3574-ED08-442D-8376-8AF9EF5928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9A61-3A98-414C-A8ED-D1B6F18456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48D4-712C-4198-BFB1-4754FB2196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A6B-51F7-4038-B643-D4829C98E9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9E1-6876-4189-ABF3-F87C085AE9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7785-0BAE-40F8-BA05-93799880B5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C2FE-ECD1-47E8-A26B-EABCB5252C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1B4B-8BC4-4D62-8946-9266712A06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73DA-B074-4DCF-AE69-4A42889635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00B4-CA10-4AA4-B0C0-F775BFB24A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5005-940A-4956-8077-A33FDDC3D2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EF28-D98B-4C70-9CC4-152B4B62DE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947D-47F1-4600-B0EE-8B4BBD6270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DDFA-B6B1-48C2-8F24-D263B09DBA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999F-57E3-48A6-9740-1BBAB9A119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5CB7-FD51-4830-B4AE-28B2F91B73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DD46-88D7-42B8-82A3-8B918F0F9D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E813-6D8A-4D98-B8DD-52240B20F3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9EDC-6430-420F-96C6-798C16026E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FB9A-94C0-4C69-A178-2AB0F0B564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A0F-87E4-428D-9923-4D73B9A721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35E-A0BF-4898-BDB1-7D795E6F7B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2B7-7032-4D1B-A07F-C4384671D8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C90-9FAA-4F79-88C8-7C062E3752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4745-31E3-4728-AA5E-9101F05471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80C1-8F33-4107-8221-EBF9D765BD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AF7-FFC3-4695-AE3D-D0E701BF03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0230-76FD-4DF6-93B8-36129442BB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3FF-08AB-4CE6-822C-B859FBB3DE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CB22-6899-4D2B-95C7-A177CE77EA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A10-CE4F-475F-861B-BE2F9A5F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9653-AC46-4219-A6BF-CFD8C980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E9D-965A-45E4-965F-53593FE5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682-78EC-4897-A012-40031F9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7DD-A203-48DD-8A55-1871A899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843-C97D-4B71-A823-E5514464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B99-2AD3-4333-AF3A-0800524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ED5-7A50-4D41-9C4C-DE47C47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C99-CFD6-48AD-B212-86EAF459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194-B2EC-47CC-9EC5-77C2906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EC4-F703-4C4D-AB04-33461969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53F-49DC-4A45-A5E6-8639FF81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C99E-69B0-4511-8E66-2A4E5B3E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F030-CC43-4420-A929-AF5CE2D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8FB0-F4F0-46B7-8EAB-BB6DE96E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F60-2866-43CC-8827-C162149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23F5-08C0-4ED8-B6A8-CF8708A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7716-9BD0-409B-81E1-F637F178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E5E5-0302-443B-8EAD-DD65D77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D531-9514-425A-B595-B0FD62F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0200-453A-4B41-B60E-C4FA451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C557-45DA-4AF3-86BF-73E95717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4D3E-4CC0-4B08-9BA9-02258034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97DC-7425-4CD8-A5AF-8E317799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5FEED-E664-4B58-938B-53BD5679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0FE5-EEBE-4009-BAEB-316F815B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66DB-FD80-4906-AD79-20365A00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7EE9D-B145-4F0A-9DC9-6267F3E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2E95A-1B88-449F-B951-2CA7DCC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2D7ED-5D37-41D5-8C21-1C3181B3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AB46-F371-4AFB-811F-69936627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2FEB-6AC4-42B1-89FD-D11A5AC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7ADE-F307-42E4-ACE4-C71F601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58419-4068-43CC-A985-3FD97C1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3951-DB68-4968-8A70-8BA5BC6C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B50F1-DD46-4753-AD69-9EDA53FD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AD8A5-C504-4CDB-A30C-F623AFA6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9580D-5465-4CD8-BE3F-FA6D78B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92DFB-721A-4EDB-A135-653F2E55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A8B3E0-C3FB-45CB-A6FF-33D0F24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0552A-D742-4F97-88F1-0F91D07A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DDF07-BDCA-4D3E-A7AE-B202FDE4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BDAD0-D1FB-4B45-AE90-EC475C22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5C159-7B3C-41F5-98BC-8A06A196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2CF7B-7E42-4A35-AADB-538053A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D584A-300D-4368-82F8-A30A0CA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7BF91-197F-423A-AC6C-E05CC3CB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F56FF-79AA-48E3-9A20-072B895B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1C461-6FC1-43FB-A8FE-952DCCFC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41BCB-3DC6-471B-9EC4-31F20664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5B4D2-41FE-4412-B69C-44DC9373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7B7F-4DD5-4C5E-BB4A-F72A89FE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EE5F4-E767-46C1-83D9-969A1B88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3B060-270D-4D90-AE49-5B66D832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900D5-6417-486E-BCE9-7603583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6F33-3DFA-41D3-B9E7-FDA7214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43B99-E105-48A6-9763-1D8D11D6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4954-198F-4273-AF64-16BBB72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89155-50B0-4F3E-9986-AC812D29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BE0DF-13F3-40DF-8B52-E953019B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7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64929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Robinson-Wood. </a:t>
            </a:r>
            <a:r>
              <a:rPr b="0" i="1" lang="en-US" sz="800" spc="-1" strike="noStrike">
                <a:solidFill>
                  <a:srgbClr val="ffffff"/>
                </a:solidFill>
                <a:latin typeface="Tahoma"/>
              </a:rPr>
              <a:t>The Convergence of Race, Ethnicity, and Gender: Multiple Identities in Counseling, 4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© 2013, 2009, 2005, 2000  by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5029200" y="6477120"/>
            <a:ext cx="7621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1-</a:t>
            </a:r>
            <a:fld id="{074542FF-0866-42C6-9BE6-1FCE4C1D15C1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1CF-A817-4FA8-B7DE-85C406D57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CB84-2F01-4B2F-853F-5F88EF1DF568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1427-378B-4B8D-B03A-FDA500968A1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5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0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E91F-0A95-4E39-B98E-5CC03DEA90E6}" type="slidenum">
              <a:rPr b="0" lang="en-US" sz="1200" spc="-1" strike="noStrike">
                <a:solidFill>
                  <a:srgbClr val="2da2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CA0-D882-46CB-BF19-0AAF2F094DF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76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7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78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82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86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8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9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2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0043-0A88-4B2B-8977-544820A67DC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723920" y="533520"/>
            <a:ext cx="331308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hapter 14: 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876920" y="2590560"/>
            <a:ext cx="3047760" cy="10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Converging Gender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745160" y="5410080"/>
            <a:ext cx="3311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242"/>
                </a:solidFill>
                <a:latin typeface="Century Gothic"/>
                <a:ea typeface="Arial"/>
              </a:rPr>
              <a:t>Created  by Tracy Robinson-Wood, 5th Edition, The Convergence of Race, Ethnicity, and Gender: Multiple  Identities in Counseling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4631040" y="16002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ging Ident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and Biolog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hromosomes are thread-like structures located inside the nucleus of animal and plant cell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Each chromosome is made of protein and a single molecule of deoxyribonucleic acid (DNA)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and Biolog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utosome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wenty two pairs of chromosomes of matching sets in both males and female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x Chromosomes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twenty-third pair of chromosomes that determine sex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XX femal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XY mal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Social Construction of Gender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Devaluation of women and the esteem given to men is culturally rooted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he family is partly responsible for socializing boys and girls into their gender role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hildren tend to be rewarded for acting appropriately and punished when there is deviation from a standard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Social Construction of Gender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Girls tend to be protected and sheltered such that dealing with novelty may be a challeng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oys are taught to be outgoing, independent and assertiv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Boys’ games reward improvisation and creativity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Restrictive Emotional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efers to the socialized practice of men’s difficulty with expressing their emotion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s a consequence of the male socialization pattern that emphasizes strength, self-reliance, and independence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Undoing Gender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Western philosophy (heterosexually driven) dictates the construction of masculinity and femininity as mutually exclusive or dichotomou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Uniformity myth tends to make sex synonymous with gender roles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ulture and Gender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ighly valued traits within the culture of the United States are also deemed masculine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ompetit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ssertivenes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ontrol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chievement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Independence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Undoing Gender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Masculinity has a greater “social utility” than does femininit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Masculinity is viewed more valuable for men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t is also viewed as valuable to women, at least to a poin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Autonom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utonomy refers to the ability to define oneself rather than being defined by other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Instrumental autonomy refers to the ability to act on the world, carry on activities, cope with problems, and take action to meet one’s needs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Emotional autonomy is the freedom from pressing needs for approval and reassurance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and the Bod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3000" y="23619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ultural values of independence, thinness, physical strength, and athleticism pervade U.S. societ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se issues are manifested by steroids use among men, and eating disorders, in particular among women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Brief Histor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Women won the right to vote in 1919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Women were regarded as propert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y resisted their subjugation and spoke out in churche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ir resistance included refusing to take their husbands’ name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and the Bod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dolescents are particularly vulnerable to eating disorders because anorexia nervosa has its highest incidence at the beginning of adolescence and bulimia has its highest incidence at the end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and Emo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Women carry the burden of caring for everyone else other than themselve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socialization process of being selfless contributes to women equating self-care with being selfish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and Emo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Depression is associated with the behavior of women constantly putting others’ needs first and discounting their own need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eing selfless—a gender socializing trait, may make a woman vulnerable to depression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tandards of Beau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merican standards of beauty are based on white or white-approximating ideal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Physical features of most white women and women of color differ from the rigid ideal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tandards of Beau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Some women undertake extreme measures to conform to the ideal beaut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sian women undergo surgery to make their eyes appear more round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tandards of Beau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Jewish women undergo rhinoplasty to obtain a smaller, narrower, and finer nos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lack women spend a lot of time and money on their hair relaxing it to make it straight or wearing weave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Gender and Experiences in Therapy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ernardez (1987) found three specific reactions to women in therapy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he discouragement and disapproval of behavior that  did not conform with traditional role prescriptions, such as mother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Gender and Experiences in Therapy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ernardez (1987) found three specific reactions to women in therapy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he disparagement and inhibition of expression of anger and other “negative” affects such as hatred and bitternes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Gender and Experiences in Therap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ernardez (1987) found three specific reactions to women in therapy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he absence of confrontation, interpretation, and exploration of passive-submissive and compliant behavior in the client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Some Gender Identity Mode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Womanist Mode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Ossana, Helms, and Leonard (1992)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dapted from Cross’s Four-Stage Model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White Male Identity Development Mode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cott and Robinson (2001)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Brief Histor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y organized meetings, received medical degrees, resisted slavery, founded schools, created clothing for women (e.g., bloomers), wrote books, and poetry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Womanist Model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Pre-encount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Women at this stage accept traditional or stereotypical notions of womanhood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Encounte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 woman has an awakening experience where she becomes aware of the prevalence of sexism in society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Womanist Model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mmersion/emers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 woman surrounds herself with other women and literature about and by women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Her feelings of  frustration, impatience, and anger at patriarchy may be noticeable to other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Womanist Model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ternalizat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 woman defines womanhood on her own term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he is not bound by external definitions or societal dictates about what it means to be a woman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White Male Identity Development Model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ype 1: Noncontact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Describes men who represent the status quo, deny racism, and seek power and privilege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ype 2: Claustrophobic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haracterizes the man who feels that other races are closing in on him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White Male Identity Development Model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ype 3: Conscious Identit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Describes the man who is in dissonance and feels this dissonance between existing belief systems and realitie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White Male Identity Development Model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ype 4: Empirical Ma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 man who questions his role in racism and oppression</a:t>
            </a: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ype 5: Optima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Describes the man who understands how his struggle for power and privilege has contributed to racism and oppressio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Gender often adds a crucial dimension to the therapeutic proces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It is important for therapists to broach the topic of gender with patients’ who hold rigid beliefs about gendered emotions, to the extent that such beliefs create hardship for the patient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linicians need the ability to hold women’s intense anger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Clinicians also need the ability to hold men’s overwhelming sadness, fear, and dependenc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Definition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Gender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ulturally determined attitudes, cognitions, and belief systems about females and males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ocial roles and interactions of women and men rather than their biological characteristics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ultural definition as to what is considered to be masculine or feminine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nder role conflic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Where there are detrimental consequences of gender roles for the person holding them or for those associated with this person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ex and Gender Rol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x role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Behavioral patterns culturally approved as more appropriate for either males or female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Gender role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Society’s views regarding appropriate behavior based on one’s biological sex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(e.g., diaper changing, garbage takeout, spider killing, thank you note sending, snow blowing)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ransGender Defini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66320" y="2362320"/>
            <a:ext cx="66294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Designates gender roles and practices which are not definable in terms of local understandings of gender normativity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ransgender also refers to persons who for a variety of reasons do not adhere to male or female bifurcation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Masculinity and Femininit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Masculinity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raditional societal roles, behaviors, and attitudes prescribed for men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Femininity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raditional societal roles, behaviors and attitudes prescribed for women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Androgyn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ndrogynous  refers to persons who are both high in feminine and masculine psychological and behavioral trait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 Robinson-Wood</dc:creator>
  <dc:description/>
  <dc:language>en-US</dc:language>
  <cp:lastModifiedBy>Austin, Rebecca</cp:lastModifiedBy>
  <dcterms:modified xsi:type="dcterms:W3CDTF">2016-03-23T20:07:11Z</dcterms:modified>
  <cp:revision>50</cp:revision>
  <dc:subject/>
  <dc:title>Assessment In Early Childhood Education</dc:title>
</cp:coreProperties>
</file>