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DE99-0BCC-4BB9-814E-6E574DF55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399E-34A3-4345-A31E-7A8F5391ED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38E0-D6BD-4D10-8665-3F0B05C177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ED95-0F8B-4144-AD7F-C6B3484868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730B-20FB-475D-9719-B83BA40B8C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4303-6E73-4948-939D-A867A3D87D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68AE-63AE-4D33-99F7-C00AD68E3C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66FC-8F73-4654-ABD4-947BF06B32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3AFA-5A00-40B4-A34C-10F1D12E36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7483-FE84-4E43-B8BD-5467B62409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AAB0-5FD5-45D9-A6F4-6102FAF493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5E9B-23C2-4A2B-B1DA-01720A33F1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FE5F-D14B-414C-916D-EBB62C7CAA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9DFC-B974-4A42-ABEE-D17727D9DF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B6EA-7F09-4C2E-A04C-6E06EF96F4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C322-F960-4B69-A18D-E1EE989F34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D673-C95F-4440-99D7-51E7EA9EEE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6FAE-93C4-49AC-8A6F-927188B5E9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F9C1-4F5B-4736-A02B-1629DCF354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20EE-EA06-4F64-B4EE-DCF482B520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863D-BE72-4DAA-A36E-7FC5907658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1911-1A0B-4B9E-8EE2-4512DE1697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82FD-8158-4C2D-ABD0-44FB65496B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60FE-CDB5-499E-B734-3ACFD2BA91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674F-EBEC-4F6F-B157-5F6ADD8DEA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D52F-5CD5-4D95-9D83-30952442D8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611C-4FAF-45FC-B76B-1A0907E7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F7B-9BA7-4D7A-925B-4F5C022F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0749-62EF-4D5D-B483-BBC57898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39C-3FED-42E4-B72D-B2239F91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FCA-F426-4FF6-BC61-60193DE0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627-A87E-42AA-8045-B9E9F28F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AEC-47EC-411E-ADC1-217DEC16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7BF-AB11-4BB9-94BB-934E724C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F02-D355-427E-8056-4BF5C89F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589-10CE-481B-965E-7E11C310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6A6-E2CC-4819-A636-59969D61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F27-A596-473D-ACDB-EEF3C21E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13A7-470E-4C6D-8958-81907C9A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E6E0-45F6-45C3-8B64-B38A6CB6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BA07-0AD8-45EE-A46E-37FD37A9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3029-AB47-4E71-BE4B-4DD74A2A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53EB-C215-4392-8A88-9CAB9319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F888-27E8-429F-90FE-96FA1134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3697-D6E7-4E74-88A0-54B6E413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B939-763A-4EE2-B193-BA105F3A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7A0E-F6DE-488C-A07E-FAB6F688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676D-7B9A-4647-AF23-CB5D1C19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CDA5-6732-47E0-B490-A646C34C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2D83-EE47-4CD3-A043-88A77592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B925A-4CBF-4C23-B25E-87CE519F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C864-476F-49A1-81DE-FDA7B2AB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0ADBD-8A73-49AD-8D66-3DB14550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66101-F0E8-4868-A414-36B541EB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81398-BC4E-405F-ACE3-2CCA6353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11427-0C6F-4FA8-A52B-3E8F87DE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6AB12-DBB4-4C80-8254-07DDF6CD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A5B74-EB7F-4C11-BFDF-D64A8080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C00F2-50F5-4E7E-AA17-1F1E9420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ACBEC-D8CA-427A-8F20-06C44972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A633-D603-4E3D-821E-9C0BF273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27EA4-FCD6-417F-B0F7-FD79291E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F1E3A3-1049-49DB-ACD2-E32601BC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4B6AFE-1834-4641-A2EA-38BDCE91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299C33-F23D-49AF-9FB4-1F1F49FE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31D46-D179-4C4C-857D-6D6B7A90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129130-CBBD-4BE5-917C-63FB6A5E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C13CFD-8058-4DA3-80AA-E079CE86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BF507B-D6BC-40D9-8D8A-F7B04BAF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B9931B-B45C-45D0-8042-D2DB70A4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2304C3-E8BF-4ECF-BE7D-CDE2C84D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23F4CE-A269-464C-BC50-606C0E24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42FA3B-B4D7-4862-96AD-CC0861C7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6BDECD-083A-49CE-894C-52E42FC9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B4FCB-20A4-45FE-B2D7-30FA7AC9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8D4DA-4A64-4FBD-BAD6-2B9CC3AF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94BBD-E021-43CF-A693-1DD961B1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CB035-1811-44B2-9F13-0907703C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47656-C442-4325-907F-BF237108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F89B9-7847-459C-8A72-427D5F08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73490-18DC-4E38-A8FE-77BD4EE8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9DE67-A42D-4CA0-A9BE-2D321903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6E499-7D48-4FC1-88B1-B3FBB315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68814-5D64-4E5D-8F1D-3BFD0E2D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12386-DA54-4762-96A0-DC988C63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22D78-A769-4A65-997E-44B7CBDB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364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4395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64395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7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4" name="Text Box 8"/>
          <p:cNvSpPr/>
          <p:nvPr/>
        </p:nvSpPr>
        <p:spPr>
          <a:xfrm>
            <a:off x="0" y="649296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Robinson-Wood. </a:t>
            </a:r>
            <a:r>
              <a:rPr b="0" i="1" lang="en-US" sz="800" spc="-1" strike="noStrike">
                <a:solidFill>
                  <a:srgbClr val="ffffff"/>
                </a:solidFill>
                <a:latin typeface="Tahoma"/>
              </a:rPr>
              <a:t>The Convergence of Race, Ethnicity, and Gender: Multiple Identities in Counseling, 4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© 2013, 2009, 2005, 2000  by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5029200" y="6477120"/>
            <a:ext cx="7621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1-</a:t>
            </a:r>
            <a:fld id="{CAFC7166-0E91-4B99-84BF-5E2CD7F91272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395E-66D7-4EE4-9B14-3A25356A7E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86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90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94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0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80C5-E2AE-46F4-8A9E-2D540C05EE55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7523-8C4E-4F16-9780-6750ECA04611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364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5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4395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64395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0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0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1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1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1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da2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3997-75C0-4F5D-9D83-02C1F8CA1DB0}" type="slidenum">
              <a:rPr b="0" lang="en-US" sz="1200" spc="-1" strike="noStrike">
                <a:solidFill>
                  <a:srgbClr val="2da2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9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9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9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9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9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0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0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AB7B-7643-484B-91F6-3319228ACA8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376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37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378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382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3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4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86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7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8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89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92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4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91D4-D2F9-491B-AC8D-03A0CE9F7EC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722480" y="380880"/>
            <a:ext cx="331308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hapter 15: </a:t>
            </a:r>
            <a:endParaRPr b="0" lang="en-US" sz="24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747680" y="3200400"/>
            <a:ext cx="2514600" cy="10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a2bf"/>
                </a:solidFill>
                <a:latin typeface="Century Gothic"/>
              </a:rPr>
              <a:t>Converging Sexuality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4724280" y="5257800"/>
            <a:ext cx="3311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24242"/>
                </a:solidFill>
                <a:latin typeface="Century Gothic"/>
                <a:ea typeface="Arial"/>
              </a:rPr>
              <a:t>Created  by Tracy Robinson-Wood, 5th Edition, The Convergence of Race, Ethnicity, and Gender: Multiple  Identities in Counseling.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4631040" y="160020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erging Identit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Bisexuality and Transgender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Bisexuality represents a fluid and dynamic sexual landscape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ransgender refers to persons who may be assigned a gender at birth yet may not identify with and/or feel congruent with this definition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8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Queer Theor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Queer theory is a field of gender and sexuality studies which rejects the idea that sexuality exists as an essentialist category determined by biology and/or judged by eternal standards of morality.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1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a2bf"/>
                </a:solidFill>
                <a:latin typeface="Century Gothic"/>
              </a:rPr>
              <a:t>Queer Theory and Coming Out</a:t>
            </a:r>
            <a:endParaRPr b="0" lang="en-US" sz="32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Queer theorists regard sexuality as complex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Queer theory includes social codes, forces, individual activity, and institutional power, which interact to shape the ideas of normativity and deviance which then operate as normal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oming out is the process when members of the LGBT community come to accept their sexuality as a salient component of their identities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4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Century Gothic"/>
              </a:rPr>
              <a:t>Characteristics of Married Opposite Sex Couples &amp; Same-Sex Couples</a:t>
            </a:r>
            <a:endParaRPr b="0" lang="en-US" sz="2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09480" y="228564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Century Gothic"/>
              </a:rPr>
              <a:t>Married Opposite Sex Couples         Same Sex Couples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Total Number:  55, 779, 842                Total Number: 783,100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Average Age: 51.9                             Average Age: 48.4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65 years and older: 21.9                     65 years and older: 15.2%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55 - 64: 21.3%                                      55 - 64: 17.1%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45 - 54: 22.2%                                      45 - 54: 26.6%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35 - 44: 20%                                         35 - 44: 19.7%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25 - 34: 13.3%                                      25 - 34: 17.3%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15 - 24: 1.3%                                        15 - 24: 4.1%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7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762120" y="2285640"/>
            <a:ext cx="77724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  </a:t>
            </a: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Opposite-Sex</a:t>
            </a: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Same-Sex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676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White alone: 73.4%             White alone: 75.7%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67680"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Hispanic (</a:t>
            </a:r>
            <a:r>
              <a:rPr b="0" lang="en-US" sz="1300" spc="-1" strike="noStrike">
                <a:solidFill>
                  <a:srgbClr val="464646"/>
                </a:solidFill>
                <a:latin typeface="Century Gothic"/>
              </a:rPr>
              <a:t>of any race</a:t>
            </a: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): 12.4%        Hispanic (</a:t>
            </a:r>
            <a:r>
              <a:rPr b="0" lang="en-US" sz="1300" spc="-1" strike="noStrike">
                <a:solidFill>
                  <a:srgbClr val="464646"/>
                </a:solidFill>
                <a:latin typeface="Century Gothic"/>
              </a:rPr>
              <a:t>of any race</a:t>
            </a: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):11.7%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676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Black: 6.9%                           Black: 7.4%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676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I/AN: 0.6%                          AI/AN: 0.7%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676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sian: 5.6%                           Asian: 3.1%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676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NHPI: 0.1%                            NHPI: 0.2%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676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OR: 3.2%                             SOR: 2.5%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9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Century Gothic"/>
              </a:rPr>
              <a:t>Characteristics of Married Opposite Sex Couples &amp; Same-Sex Couples</a:t>
            </a:r>
            <a:endParaRPr b="0" lang="en-US" sz="20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Century Gothic"/>
              </a:rPr>
              <a:t>Characteristics of Married Opposite Sex Couples &amp; Same-Sex Couples</a:t>
            </a:r>
            <a:endParaRPr b="0" lang="en-US" sz="2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2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64646"/>
                </a:solidFill>
                <a:latin typeface="Century Gothic"/>
              </a:rPr>
              <a:t>Opposite Sex</a:t>
            </a:r>
            <a:r>
              <a:rPr b="1" lang="en-US" sz="1700" spc="-1" strike="noStrike">
                <a:solidFill>
                  <a:srgbClr val="464646"/>
                </a:solidFill>
                <a:latin typeface="Century Gothic"/>
              </a:rPr>
              <a:t>	</a:t>
            </a:r>
            <a:r>
              <a:rPr b="1" lang="en-US" sz="1700" spc="-1" strike="noStrike">
                <a:solidFill>
                  <a:srgbClr val="464646"/>
                </a:solidFill>
                <a:latin typeface="Century Gothic"/>
              </a:rPr>
              <a:t>	</a:t>
            </a:r>
            <a:r>
              <a:rPr b="1" lang="en-US" sz="1700" spc="-1" strike="noStrike">
                <a:solidFill>
                  <a:srgbClr val="464646"/>
                </a:solidFill>
                <a:latin typeface="Century Gothic"/>
              </a:rPr>
              <a:t>	</a:t>
            </a:r>
            <a:r>
              <a:rPr b="1" lang="en-US" sz="1700" spc="-1" strike="noStrike">
                <a:solidFill>
                  <a:srgbClr val="464646"/>
                </a:solidFill>
                <a:latin typeface="Century Gothic"/>
              </a:rPr>
              <a:t>   Same-Sex</a:t>
            </a:r>
            <a:endParaRPr b="0" lang="en-US" sz="17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2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46"/>
                </a:solidFill>
                <a:latin typeface="Century Gothic"/>
              </a:rPr>
              <a:t>2 or more races: 1.5%                       2 or more races: 2.5%</a:t>
            </a:r>
            <a:endParaRPr b="0" lang="en-US" sz="17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2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46"/>
                </a:solidFill>
                <a:latin typeface="Century Gothic"/>
              </a:rPr>
              <a:t>Interracial couples: 6.8%                  Interracial couples: 14.8%</a:t>
            </a:r>
            <a:endParaRPr b="0" lang="en-US" sz="17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2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46"/>
                </a:solidFill>
                <a:latin typeface="Century Gothic"/>
              </a:rPr>
              <a:t>Householder/bachelors: 38.2%       Householder/bachelors: 48.6%</a:t>
            </a:r>
            <a:endParaRPr b="0" lang="en-US" sz="17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2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46"/>
                </a:solidFill>
                <a:latin typeface="Century Gothic"/>
              </a:rPr>
              <a:t>Both partners employed: 47.8%      Both partners employed: 59.5%</a:t>
            </a:r>
            <a:endParaRPr b="0" lang="en-US" sz="17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2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646"/>
                </a:solidFill>
                <a:latin typeface="Century Gothic"/>
              </a:rPr>
              <a:t>Children in home: 39.6%                  Children in home: 17.3%</a:t>
            </a:r>
            <a:endParaRPr b="0" lang="en-US" sz="17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46"/>
                </a:solidFill>
                <a:latin typeface="Century Gothic"/>
              </a:rPr>
              <a:t>(Source: U. S. Census, 2014c).</a:t>
            </a: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13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a2bf"/>
                </a:solidFill>
                <a:latin typeface="Century Gothic"/>
              </a:rPr>
              <a:t>Focus on Gay, Lesbian, and Transgender in Counseling</a:t>
            </a:r>
            <a:endParaRPr b="0" lang="en-US" sz="24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pproximately 25% to 65% of the gay, lesbian, and bisexual population seek psychotherapy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Relationship quality is adversely affected when people have not revealed core information about their identity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16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a2bf"/>
                </a:solidFill>
                <a:latin typeface="Century Gothic"/>
              </a:rPr>
              <a:t>Focus on Gay, Lesbian, and Transgender in Counseling</a:t>
            </a:r>
            <a:endParaRPr b="0" lang="en-US" sz="24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One study found that mental health professionals and counselors-in-training scored in the “low grade” homophobic range of the Index of Attitudes toward Homosexuals Scale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19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a2bf"/>
                </a:solidFill>
                <a:latin typeface="Century Gothic"/>
              </a:rPr>
              <a:t>Focus on Gay, Lesbian, and Transgender in Counseling</a:t>
            </a:r>
            <a:endParaRPr b="0" lang="en-US" sz="24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Estimates vary but there were nearly 1 million same-sex couples in the 2010 Census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2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a2bf"/>
                </a:solidFill>
                <a:latin typeface="Century Gothic"/>
              </a:rPr>
              <a:t>10 cities with largest number of same-sex couples</a:t>
            </a:r>
            <a:endParaRPr b="0" lang="en-US" sz="24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San Francisco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Seattle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Oakland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Minneapolis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Atlanta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Portland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Long Beach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Washington, DC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Boston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Denver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5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Language of Sexuality </a:t>
            </a:r>
            <a:r>
              <a:rPr b="0" lang="en-US" sz="1600" spc="-1" strike="noStrike">
                <a:solidFill>
                  <a:srgbClr val="2da2bf"/>
                </a:solidFill>
                <a:latin typeface="Century Gothic"/>
              </a:rPr>
              <a:t>(partial list)</a:t>
            </a:r>
            <a:endParaRPr b="0" lang="en-US" sz="1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Gay man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ransman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ranswoman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Lesbian woman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Bisexual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Pansexual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73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LGBT Issues In Counseling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Substance abuse among lesbians and gay men is high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Gay men and lesbians attempt suicide two to seven times more often than heterosexuals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An estimated 3 million adolescents across the country are gay, lesbian, transgendered, or bisexual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LGBT Microaggressions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Nadal et al.(2011) conducted focus groups with 26 LGBT individuals and categorized homophobic and transphobic microaggressions into the following themes: 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1) Use of heterosexist and transphobic terminology,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2) Endorsement of heteronormative and gender normative culture/behaviors,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3) Assumption of universal lesbian, gay, bisexual and trans* (LGBT) experience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1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a2bf"/>
                </a:solidFill>
                <a:latin typeface="Century Gothic"/>
              </a:rPr>
              <a:t>LGBT Microaggressions (Nadal, Cont).</a:t>
            </a:r>
            <a:endParaRPr b="0" lang="en-US" sz="24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7000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4) Exoticization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5) Discomfort/disapproval of LGBT experience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6) Denial of societal heterosexism or transphobia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7) Assumption of sexual pathology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8) Denial of individual heterosexism/transphobia.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4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LGBT and Discrimination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Discrimination towards LGBT individuals has been linked to: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Higher rates of substance use 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Depression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Psychological distress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Anxiety 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Suicide ideation 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Higher rates of HIV infection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a2bf"/>
                </a:solidFill>
                <a:latin typeface="Century Gothic"/>
              </a:rPr>
              <a:t>Counseling LGBT people of color</a:t>
            </a:r>
            <a:endParaRPr b="0" lang="en-US" sz="28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People of color who are LGBT are often oppressed within the larger LGBT communities and do not receive the affirmation that white LGBT people receive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Racism is a problem for some black LGBT people in their relations with white LGBT people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a2bf"/>
                </a:solidFill>
                <a:latin typeface="Century Gothic"/>
              </a:rPr>
              <a:t>Counseling LGBT People of Color</a:t>
            </a:r>
            <a:endParaRPr b="0" lang="en-US" sz="28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Homophobia within communities of color can contribute to LGBT people of color not finding necessary psychological and social support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Research suggest that people who are both black and transgendered fare worse than others. 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3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Developmental Processes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Some linear stage models of gay and lesbian identity development exist; limitations include: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Not all people progress through stages in order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Older adults experience their sexuality differently from youth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6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Developmental Processes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Some linear stage models of gay and lesbian identity development exist; limitations include: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Models do not tend to account for children and young adolescents transitioning through sexuality development processes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 experience of being bisexual and/or transgender is different from being gay or lesbian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9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Developmental Processes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Despite clear limitations, identity development models can help mental health professionals understand the themes that describe certain stages.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Century Gothic"/>
              </a:rPr>
              <a:t>Cass’s Model of Gay, Lesbian, and Bisexual Identity Formation</a:t>
            </a:r>
            <a:endParaRPr b="0" lang="en-US" sz="2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tage 1: Identity Confusion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Who am I </a:t>
            </a:r>
            <a:r>
              <a:rPr b="0" lang="en-US" sz="2600" spc="-1" strike="noStrike">
                <a:solidFill>
                  <a:srgbClr val="464646"/>
                </a:solidFill>
                <a:latin typeface="Arial"/>
                <a:ea typeface="Arial"/>
              </a:rPr>
              <a:t>? 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Am I homosexual</a:t>
            </a:r>
            <a:r>
              <a:rPr b="0" lang="en-US" sz="2600" spc="-1" strike="noStrike">
                <a:solidFill>
                  <a:srgbClr val="464646"/>
                </a:solidFill>
                <a:latin typeface="Arial"/>
                <a:ea typeface="Arial"/>
              </a:rPr>
              <a:t>? 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tage 2: Identity Comparison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Investigates qualities experienced in Stage 1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tage 3: Identity Tolerance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Increased contact with gay community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55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Language of Sexuality </a:t>
            </a:r>
            <a:r>
              <a:rPr b="0" lang="en-US" sz="1600" spc="-1" strike="noStrike">
                <a:solidFill>
                  <a:srgbClr val="2da2bf"/>
                </a:solidFill>
                <a:latin typeface="Century Gothic"/>
              </a:rPr>
              <a:t>(partial list)</a:t>
            </a:r>
            <a:endParaRPr b="0" lang="en-US" sz="1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Asexual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ransfeminine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ransmasculine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Gender queer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y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Cisgender</a:t>
            </a:r>
            <a:r>
              <a:rPr b="0" i="1" lang="en-US" sz="28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76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Century Gothic"/>
              </a:rPr>
              <a:t>Cass’s Model of Gay, Lesbian, and Bisexual Identity Formation</a:t>
            </a:r>
            <a:endParaRPr b="0" lang="en-US" sz="2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066320" y="243828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tage 4: Identity Acceptance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7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Accepts rather than tolerates gay self-image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70000"/>
              </a:lnSpc>
              <a:spcBef>
                <a:spcPts val="224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tage 5: Identity Pride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7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Marked by strong pride but also anger toward heterosexuals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70000"/>
              </a:lnSpc>
              <a:spcBef>
                <a:spcPts val="224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tage 6: Identity Synthesis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7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Gay/lesbian aspects of identity are synthesized with other aspects of self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58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a2bf"/>
                </a:solidFill>
                <a:latin typeface="Century Gothic"/>
              </a:rPr>
              <a:t>Troiden’s Model</a:t>
            </a:r>
            <a:endParaRPr b="0" lang="en-US" sz="28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Several non-sequential stages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First stage – Sensitization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Before puberty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Second stage – Identity Confusion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dolescence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1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a2bf"/>
                </a:solidFill>
                <a:latin typeface="Century Gothic"/>
              </a:rPr>
              <a:t>Troiden’s Homosexual Identity Developmental Model</a:t>
            </a:r>
            <a:endParaRPr b="0" lang="en-US" sz="28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Identity assumption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Occurs between ages 19 to 21 for males and 21 to 23 for females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Commitment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Occurs between 21 to 24 for males and 22 to 23 for females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Century Gothic"/>
              </a:rPr>
              <a:t>Implications for Mental Health Professionals</a:t>
            </a:r>
            <a:endParaRPr b="0" lang="en-US" sz="2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American Psychological Association has issued 16 guidelines for psychotherapy with lesbian, gay, and bisexual clients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Strategies that counselors can employ include: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Being aware of personal feelings toward gay men and lesbians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Validate confusion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7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a2bf"/>
                </a:solidFill>
                <a:latin typeface="Century Gothic"/>
              </a:rPr>
              <a:t>Implications for Mental Health Professionals</a:t>
            </a:r>
            <a:endParaRPr b="0" lang="en-US" sz="2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Strategies that counselors can employ include: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Provide a safe and supportive environmen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Dispute myths about homosexuality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ttend workshops on counseling LGBT people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Be aware of sexual identity models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70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Language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762120" y="2514600"/>
            <a:ext cx="341928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64646"/>
                </a:solidFill>
                <a:uFillTx/>
                <a:latin typeface="Century Gothic"/>
              </a:rPr>
              <a:t>Older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ransvestite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Homosexual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Intersexual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He or she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266720" y="2514240"/>
            <a:ext cx="4575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64646"/>
                </a:solidFill>
                <a:uFillTx/>
                <a:latin typeface="Century Gothic"/>
              </a:rPr>
              <a:t>Newer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Cross Dresser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Gay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Disorders of Sexual Development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He/she/they/zer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0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Heterosexism defined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Heterosexism is the belief that: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Everyone is heterosexua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at heterosexual relationships are preferred and necessary for the preservation of the family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Heterosexism is institutionalized through religion and contributes to homophobia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3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Homophobia Defined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Homophobia is a sense of dread of being in close quarters with people who are lesbian, bisexual, or gay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6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Homonegativit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Homonegativity is negative feelings and thoughts about lesbian, gay, or bisexual orientations or individuals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9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Internalized Homophobia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Internalized homophobia is internalized negative messages that results in low self-esteem and can lead to self-contempt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2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Affirmative Gay-Identit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omeone who acknowledges and honors their homoerotic orientation and incorporates this knowledge into their identity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5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racy Robinson-Wood</dc:creator>
  <dc:description/>
  <dc:language>en-US</dc:language>
  <cp:lastModifiedBy>Austin, Rebecca</cp:lastModifiedBy>
  <dcterms:modified xsi:type="dcterms:W3CDTF">2016-03-23T20:07:39Z</dcterms:modified>
  <cp:revision>54</cp:revision>
  <dc:subject/>
  <dc:title>Assessment In Early Childhood Education</dc:title>
</cp:coreProperties>
</file>