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3311-CDDE-4A72-903A-7C4F5395A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A5B-EDD8-4070-A24E-46980BA7A6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AFEE-EAA3-4CD5-8324-3709E6A1E0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99D-E3B6-4DAC-9835-34EE85AF33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5451-590C-46EE-B3B3-A3DB93665F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25D3-1DAB-48A2-A608-4CE82D28E7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E5B2-A76E-4AE9-86E0-A3E28B0916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45D5-0961-4FBF-8E22-60D5114166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CEA-277A-4781-BCA9-967576B6AB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286D-2EBD-4860-B51A-836C390BAF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5903-E4E0-4F64-9AE3-66DAC93B9B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B3FD-59A5-486F-A7F1-38A674D7CE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9622-5A3F-443D-A67A-0BF9514CAF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BF8F-23E1-453A-835B-4B8B31232B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BB1-6E9F-42BC-82AB-349F48A3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AF9-74C0-4AD7-A148-450A8B0F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087-9BC0-4489-BE8F-1678DD16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BC8-2DC2-432B-A808-00C7B28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B46-BFAF-48D3-9067-523E174A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D9A-67AF-4036-B60C-E3CE3D2E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E54-2D1F-4132-BD21-38C7F7A7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E02-8BE4-4C8A-803A-08CB2DD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232-842C-4D6A-88CD-9B163AFE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154-B84C-4081-8746-C905C082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E1E-5061-4023-AD5B-72DA8031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D2F-12F6-4748-886F-53E06B11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D320-46E9-4C77-8297-CAE7E1ED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B4BE-F045-4A52-9B9D-2C56F74A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B91E-C9C3-4B41-BC59-8055229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7019-A97A-4A2C-9132-C4F08519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810E-A5D8-41B2-BCE3-E6EF3AA3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6DE-83D7-4035-B327-08A59109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A5B7-5CF5-42BC-942C-4A6852F1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D2D-6DEB-4B3C-9B3A-404A821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E4F3-E400-431D-AD85-23BB0FA5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71E-9146-453F-9415-2EAC89D0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DB73-670A-47AD-8E38-B2B23E61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15BE-8E41-4AA0-99F0-9289F30A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64E4B-4FFF-490A-B54D-959CF598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E2177-F7E5-424D-975C-7475197E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A855-04DF-4436-8545-A8E29E3B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E9B1D-3192-4D47-A29B-E1B539D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F7FE-E8F9-49D5-A275-24C0D1C7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6262-5F1F-4312-BF91-4D7DB43E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4B86-B6E5-4B45-8440-D3B79C5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05C4-1378-4C08-995F-06349790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C08C-945E-4BB0-B3B5-F6141D8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543E-2B04-411F-B97D-E31677E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18D0-E7C4-4408-A140-4E5382B2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1E73-24AF-4103-A874-80093844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8F37D-8CCB-4BDB-B28A-CCEA7268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4AE30-F4D1-49B9-97E2-6A89EFA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4C84FB-424C-45DF-9BEA-CB2B2EAA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4F97D-D953-4FB6-9A66-0DEFDAF5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C8F501-5D59-412E-9E68-ADE26B88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76978-A32D-42A2-86E2-59A4D89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649F5-2569-4C54-A873-905D42A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FDEA7-2C7B-46F8-AD55-029BBEEB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5C16F-EA2E-4386-A654-25225F2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7C6E86-B363-444C-B1CC-9A2926FD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613C3-E84E-4911-B5E7-A2751B1E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41250-6F40-49A0-99F8-F7E4D362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B8156-E217-4D11-8086-B14C0F60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25F2-BFDC-4839-91E8-9806E9CF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9D440-B906-4CE1-B219-EDEB0AC2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5526-30FB-4E09-8108-429B1288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F549-2BC0-4D17-A7CD-6117376F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33E7C-5C04-4307-8AE0-03731AD2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A3A1-9E9E-4058-8D30-1DA534C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9532-5CB5-4764-B210-4EDFC23B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1E3E-8606-4AE6-B91F-23EE65F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F658-44BE-4813-8757-5BDA0412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9671-16BB-4F9A-8D88-35CD6B69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2D4AD-EDEE-426F-8D4E-1D8F4E3B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7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64929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Robinson-Wood. </a:t>
            </a:r>
            <a:r>
              <a:rPr b="0" i="1" lang="en-US" sz="800" spc="-1" strike="noStrike">
                <a:solidFill>
                  <a:srgbClr val="ffffff"/>
                </a:solidFill>
                <a:latin typeface="Tahoma"/>
              </a:rPr>
              <a:t>The Convergence of Race, Ethnicity, and Gender: Multiple Identities in Counseling, 4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© 2013, 2009, 2005, 2000  by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5029200" y="6477120"/>
            <a:ext cx="7621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1-</a:t>
            </a:r>
            <a:fld id="{24D2B8C3-BC4C-4142-B913-1FC257447749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4194-5141-44E6-9FA1-8A5DE09F4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127D-3A02-4F18-B225-9559CCDFA17D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9C7-C9C6-421E-A895-FCDD6BFEA50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5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0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6A0C-0320-4D68-BB7E-275A76614B6B}" type="slidenum">
              <a:rPr b="0" lang="en-US" sz="1200" spc="-1" strike="noStrike">
                <a:solidFill>
                  <a:srgbClr val="2da2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E383-B82F-46B7-B276-E5140271382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76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7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78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82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86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8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9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2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AF19-EDCB-4F08-A24A-0DCA7C8152F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746240" y="380880"/>
            <a:ext cx="331308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hapter 18: 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723920" y="2895480"/>
            <a:ext cx="342900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Converging Spiritualit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724280" y="5334120"/>
            <a:ext cx="3311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242"/>
                </a:solidFill>
                <a:latin typeface="Century Gothic"/>
                <a:ea typeface="Arial"/>
              </a:rPr>
              <a:t>Created  by Tracy Robinson-Wood, 5th Edition, The Convergence of Race, Ethnicity, and Gender: Multiple  Identities in Counseling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4631040" y="16002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ging Ident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Relig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2323800"/>
            <a:ext cx="6777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eligiosity and spirituality are interrelated concepts but important differences exist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eligion: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practice of one’s beliefs with respect to a higher being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volved are behaviors, rituals, and routines related to the worship experienc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 set of practices and beliefs that are shared by a community or group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7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piritual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efers to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outward expression of the inner workings of the human spiri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aving a personal relationship with a higher power and faith and may be a process used to find meaning in one’s lif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imensions of Spiritual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gersoll (1995) defined spirituality as having seven dimensions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6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One’s conception of the divine or force greater than oneself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6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One’s sense of meaning or what is beautiful, worthwhil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imensions of Spiritual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gersoll (1995) defined spirituality as having seven dimensions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3. One’s sense of relationship with Divinity and other being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4. Tolerance for myster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76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imensions of Spiritual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gersoll (1995) defined spirituality as having seven dimensions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5. Peak and ordinary experiences engaged to enhance spirituality (may include rituals or spiritual disciplines)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6. Spirituality as play or giving of oneself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9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imensions of Spiritual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gersoll (1995) defined spirituality as having seven dimensions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7. Spirituality as a systematic force that acts to integrate all the dimensions of one’s lif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1523520"/>
            <a:ext cx="702468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a2bf"/>
                </a:solidFill>
                <a:latin typeface="Century Gothic"/>
              </a:rPr>
              <a:t>Changes in Religious Affiliation, 2007-2014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21896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 u="sng">
                <a:solidFill>
                  <a:srgbClr val="464646"/>
                </a:solidFill>
                <a:uFillTx/>
                <a:latin typeface="Century Gothic"/>
              </a:rPr>
              <a:t>                                     </a:t>
            </a:r>
            <a:r>
              <a:rPr b="1" lang="en-GB" sz="1500" spc="-1" strike="noStrike" u="sng">
                <a:solidFill>
                  <a:srgbClr val="464646"/>
                </a:solidFill>
                <a:uFillTx/>
                <a:latin typeface="Century Gothic"/>
              </a:rPr>
              <a:t>2007          2014          %Change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  </a:t>
            </a: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Christian                78.4%       70.6%         -7.8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  </a:t>
            </a: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Protestant             51.3%       46.5%         -4.8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  </a:t>
            </a: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Catholic                23.9%       20.8%        -3.1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Non-Christian          4.7%        5.9%           +1.2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Muslim                      0.4%        0.9%          +0.5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Hindu                        0.4%         0.7%          +0.3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Other Faiths*            1.2%        1.5%          +0.3%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Unaffiliated              16.1%       22.8%        +6.7% 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 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464646"/>
                </a:solidFill>
                <a:latin typeface="Century Gothic"/>
              </a:rPr>
              <a:t>The “other faiths” category includes Unitarians, New Age religions, Native American religions and a number of other non-Christian faiths.</a:t>
            </a: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2560" y="1371600"/>
            <a:ext cx="702468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Religiously unAffiliated (agnostic, atheistic, or nothing in particular) by Age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920" y="2323800"/>
            <a:ext cx="73389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 </a:t>
            </a:r>
            <a:r>
              <a:rPr b="0" lang="en-GB" sz="2000" spc="-1" strike="noStrike" u="sng">
                <a:solidFill>
                  <a:srgbClr val="464646"/>
                </a:solidFill>
                <a:uFillTx/>
                <a:latin typeface="Century Gothic"/>
              </a:rPr>
              <a:t>TOTAL  18-29    30+    30-39    40-49    50-59    60-69    70+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     </a:t>
            </a: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16%    25%   14%  19%   15%    14%    10%      8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8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Millenials and Spirituality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re are age differences with respect to religion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religious groups that reflect growth tend to be relatively young and getting younger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ligious groups that are shrinking tend to be relatively old and getting older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1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Millenials and Spirituality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median age of religiously unaffiliated adults is 36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median age among self-identified atheists and agnostics is 34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hristian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Christianity i</a:t>
            </a: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 the largest religion worldwide and is purported to have 2.1 billion members, or 33% of the world’s inhabitant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Millenials and Spirituality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Muslims and Hindus are relatively young, with a median age of 33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median age of Jews, Catholics, and Protestants is closer to 50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21% of Christians have reached the traditional retirement age of 65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Millenials and Spirituality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9% of the religiously unaffiliated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5% of Muslims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4% of Hindus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ave reached the traditional retirement ag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0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linical Skills in Integrating Spirituality and Psychotherap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pirituality is a core dimension of lif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riendship, love, work, and self-regulation are also core dimensions of lif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arriers exist to inclusion of spirituality in therapy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linical Skills in Integrating Spirituality and Psychotherap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oth spirituality and therapy are oriented to helping the client to: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Learn to accept self in a relationship to the environment and other peopl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rgive one’s self and other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cknowledge personal shortcoming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linical Skills in Integrating Spirituality and Psychotherap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onfront corrective and destructive guil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odify patterns of thinking, behaving, and feeling that are self-destructiv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odify patterns of thinking, behaving, and feeling that contribute to a lesser life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9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linical Skills in Integrating Spirituality and Psychotherap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ability to examine prejudice and biases around spirituality and religion, both positive and negativ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ecoming familiar with the literature on  spiritual experience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Using a client’s spiritual beliefs in the pursuit of the client’s therapeutic goal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linical Skills in Integrating Spirituality and Psychotherap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6632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xploring religion from a different culture than one’s ow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ssessing the relevance of the spiritual domains in the client’s therapeutic issue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o help patients experience the healing benefits of spirituality within therapy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erapists are able to usher spirituality into the therapy room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herapists are able to critique cultural patterns about religion and gender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hristian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Included among Christians: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atholic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Protestant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Pentecostal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Latter-day Saints of Jesus Christ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Jehovah Witnesse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Quaker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outhern Baptist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Islam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Islam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has approximately 1.5 billion members, or 21% of the planet’s population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hiite and Sunni are included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9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ecular/non-religiou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Persons who are </a:t>
            </a: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secular nonreligious/agnostic</a:t>
            </a: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/ atheist number 1.1 billion and are the third largest group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is group represent 16% of the world’s religious population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induism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Hinduism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s fourth, with 900 million followers and 14% of religious followers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5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hinese traditional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Chinese traditional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ligion is fifth with 394 million people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Buddhism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Buddhism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is sixth with 376 million peopl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1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Indigenou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entury Gothic"/>
              </a:rPr>
              <a:t>Primal-indigenous</a:t>
            </a: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 is seventh and represents 100 million people. Included are: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frican/Traditional/Diasporic religions, each represent 6% of the world’s religious populatio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3308400" y="649296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 Robinson-Wood</dc:creator>
  <dc:description/>
  <dc:language>en-US</dc:language>
  <cp:lastModifiedBy>Austin, Rebecca</cp:lastModifiedBy>
  <dcterms:modified xsi:type="dcterms:W3CDTF">2016-03-23T20:08:17Z</dcterms:modified>
  <cp:revision>53</cp:revision>
  <dc:subject/>
  <dc:title>Assessment In Early Childhood Education</dc:title>
</cp:coreProperties>
</file>