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7D2-357B-41C7-9584-6656ADFE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271-6769-44C6-B574-6DFDE677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A11-F91E-424F-A403-89D829BF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758-09BB-42D6-933A-5FFE446B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931-E558-42A2-BF26-84A5274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D40-7408-4621-A0F0-9973916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CB8-03DC-4ABE-B675-E7D9F6EB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2F0-B08B-475E-A9E3-B159A0D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9B6-9296-49AA-B03A-AD098F8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643-7612-4C01-9BF0-82A0D1E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58C-5588-4153-B6B8-8769908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7E8-B19D-4322-B81B-92AE162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A41-D22F-4F02-88D2-AE2A3FE2A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Table 7.1.jpg"/>
          <p:cNvPicPr/>
          <p:nvPr/>
        </p:nvPicPr>
        <p:blipFill>
          <a:blip r:embed="rId1"/>
          <a:stretch/>
        </p:blipFill>
        <p:spPr>
          <a:xfrm>
            <a:off x="0" y="77616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Map 7.1.jpg"/>
          <p:cNvPicPr/>
          <p:nvPr/>
        </p:nvPicPr>
        <p:blipFill>
          <a:blip r:embed="rId1"/>
          <a:stretch/>
        </p:blipFill>
        <p:spPr>
          <a:xfrm>
            <a:off x="668160" y="0"/>
            <a:ext cx="780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2:53Z</dcterms:created>
  <dc:creator>conversion</dc:creator>
  <dc:description/>
  <dc:language>en-US</dc:language>
  <cp:lastModifiedBy>conversion</cp:lastModifiedBy>
  <dcterms:modified xsi:type="dcterms:W3CDTF">2014-04-04T05:33:05Z</dcterms:modified>
  <cp:revision>1</cp:revision>
  <dc:subject/>
  <dc:title>Slide 1</dc:title>
</cp:coreProperties>
</file>