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2A4-964C-4E22-88E4-257186DC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59C-CC70-4880-A016-E9A5B8B4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7F41-9678-49D4-B8A5-DD978147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91E8-0034-48CC-A17D-C7943D56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BE78-7C3F-4BAB-8D5A-040CE281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CE5-3EC4-48C7-9F16-C82D387D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EC38-2067-4A9F-91E5-144A23F8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2F7-4988-40F8-9B8E-9111715B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F4D-149D-47E4-945D-0C640AD4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15DD-88F1-41DF-B9E1-0AC02549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6F9-2CCF-4C41-B15F-065580B7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B22E-03FC-4E7E-A4EC-FA737828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9899-7055-4132-8918-12FCD2C67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Beebe_2e_Figure 4.1.jpg"/>
          <p:cNvPicPr/>
          <p:nvPr/>
        </p:nvPicPr>
        <p:blipFill>
          <a:blip r:embed="rId1"/>
          <a:stretch/>
        </p:blipFill>
        <p:spPr>
          <a:xfrm>
            <a:off x="2089080" y="0"/>
            <a:ext cx="496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Beebe_2e_Table 4.1.jpg"/>
          <p:cNvPicPr/>
          <p:nvPr/>
        </p:nvPicPr>
        <p:blipFill>
          <a:blip r:embed="rId1"/>
          <a:stretch/>
        </p:blipFill>
        <p:spPr>
          <a:xfrm>
            <a:off x="0" y="1338120"/>
            <a:ext cx="914400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eebe_2e_Table 4.2.jpg"/>
          <p:cNvPicPr/>
          <p:nvPr/>
        </p:nvPicPr>
        <p:blipFill>
          <a:blip r:embed="rId1"/>
          <a:stretch/>
        </p:blipFill>
        <p:spPr>
          <a:xfrm>
            <a:off x="0" y="1001880"/>
            <a:ext cx="9144000" cy="48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Beebe_2e_Table 4.3.jpg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Beebe_2e_Table 4.4.jpg"/>
          <p:cNvPicPr/>
          <p:nvPr/>
        </p:nvPicPr>
        <p:blipFill>
          <a:blip r:embed="rId1"/>
          <a:stretch/>
        </p:blipFill>
        <p:spPr>
          <a:xfrm>
            <a:off x="2355840" y="0"/>
            <a:ext cx="443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5:29:49Z</dcterms:created>
  <dc:creator>conversion</dc:creator>
  <dc:description/>
  <dc:language>en-US</dc:language>
  <cp:lastModifiedBy>conversion</cp:lastModifiedBy>
  <dcterms:modified xsi:type="dcterms:W3CDTF">2014-04-04T05:30:04Z</dcterms:modified>
  <cp:revision>1</cp:revision>
  <dc:subject/>
  <dc:title>Slide 1</dc:title>
</cp:coreProperties>
</file>