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60E-D6B0-488D-807F-0298155E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8FB-674F-47EF-93C2-83A4E4A2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C15-02B3-48EB-ACF3-F34D4A6A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2B3-1182-4B30-9F35-6503B3A8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46B-9151-4412-827E-249F4031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2B3-76CA-4D25-9D06-36CB581C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2FE-9D73-47F1-9F59-E7B184FB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14E-16A0-4D53-B97A-707D34F1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D1C-6B6C-49CC-A75C-E680DA84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BC2-5AE2-4530-8A5D-EB5D338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DBD-1964-4704-B522-A75E6EEE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B0C-CD63-4537-A252-D360921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DD16-E226-4D8D-AC6C-F644E91E3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Box 17.1.jpg"/>
          <p:cNvPicPr/>
          <p:nvPr/>
        </p:nvPicPr>
        <p:blipFill>
          <a:blip r:embed="rId1"/>
          <a:stretch/>
        </p:blipFill>
        <p:spPr>
          <a:xfrm>
            <a:off x="0" y="32076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eebe_2e_Map 17.1.jpg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Box 17.1(Continued).jpg"/>
          <p:cNvPicPr/>
          <p:nvPr/>
        </p:nvPicPr>
        <p:blipFill>
          <a:blip r:embed="rId1"/>
          <a:stretch/>
        </p:blipFill>
        <p:spPr>
          <a:xfrm>
            <a:off x="2533680" y="0"/>
            <a:ext cx="407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Box 17.1(Continued 1).jpg"/>
          <p:cNvPicPr/>
          <p:nvPr/>
        </p:nvPicPr>
        <p:blipFill>
          <a:blip r:embed="rId1"/>
          <a:stretch/>
        </p:blipFill>
        <p:spPr>
          <a:xfrm>
            <a:off x="1461960" y="0"/>
            <a:ext cx="622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Figure 17.1.jpg"/>
          <p:cNvPicPr/>
          <p:nvPr/>
        </p:nvPicPr>
        <p:blipFill>
          <a:blip r:embed="rId1"/>
          <a:stretch/>
        </p:blipFill>
        <p:spPr>
          <a:xfrm>
            <a:off x="765000" y="0"/>
            <a:ext cx="761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Figure 17.2.jpg"/>
          <p:cNvPicPr/>
          <p:nvPr/>
        </p:nvPicPr>
        <p:blipFill>
          <a:blip r:embed="rId1"/>
          <a:stretch/>
        </p:blipFill>
        <p:spPr>
          <a:xfrm>
            <a:off x="2509920" y="0"/>
            <a:ext cx="412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Table 17.1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Beebe_2e_Table 17.2.jpg"/>
          <p:cNvPicPr/>
          <p:nvPr/>
        </p:nvPicPr>
        <p:blipFill>
          <a:blip r:embed="rId1"/>
          <a:stretch/>
        </p:blipFill>
        <p:spPr>
          <a:xfrm>
            <a:off x="0" y="1407960"/>
            <a:ext cx="91440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eebe_2e_Table 17.3.jpg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Beebe_2e_Table 17.4.jpg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54:21Z</dcterms:created>
  <dc:creator>conversion</dc:creator>
  <dc:description/>
  <dc:language>en-US</dc:language>
  <cp:lastModifiedBy>conversion</cp:lastModifiedBy>
  <dcterms:modified xsi:type="dcterms:W3CDTF">2014-04-04T05:54:46Z</dcterms:modified>
  <cp:revision>1</cp:revision>
  <dc:subject/>
  <dc:title>Slide 1</dc:title>
</cp:coreProperties>
</file>