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ECA-BE4B-4904-8076-130300BA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C1A-44B7-41B9-AC50-D1E7EF1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1D6-C8D2-4AE7-BD1F-E173B6A4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283-D3EB-40CA-9E9B-239557A5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B40-E3D9-40DF-942B-A9F75D2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4EB-19FB-49D3-9AFD-968272B8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F49-ADE2-4260-B26C-B19CBE7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60C-D68B-4CA6-9950-BAD84AA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54B-E84E-4C7B-BBD5-57ED137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487-4763-4679-898D-80C3933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2D3-E2F0-44EE-906A-0CD14A58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3D9-7505-449C-89C3-D41EF9A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07E-BFC4-4E9B-B4D4-C5035C114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11.1.jpg"/>
          <p:cNvPicPr/>
          <p:nvPr/>
        </p:nvPicPr>
        <p:blipFill>
          <a:blip r:embed="rId1"/>
          <a:stretch/>
        </p:blipFill>
        <p:spPr>
          <a:xfrm>
            <a:off x="2908440" y="0"/>
            <a:ext cx="332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Figure 11.2.jpg"/>
          <p:cNvPicPr/>
          <p:nvPr/>
        </p:nvPicPr>
        <p:blipFill>
          <a:blip r:embed="rId1"/>
          <a:stretch/>
        </p:blipFill>
        <p:spPr>
          <a:xfrm>
            <a:off x="2475000" y="0"/>
            <a:ext cx="41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Figure 11.3.jpg"/>
          <p:cNvPicPr/>
          <p:nvPr/>
        </p:nvPicPr>
        <p:blipFill>
          <a:blip r:embed="rId1"/>
          <a:stretch/>
        </p:blipFill>
        <p:spPr>
          <a:xfrm>
            <a:off x="2624040" y="0"/>
            <a:ext cx="389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11.1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11.2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Table 11.3.jpg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Table 11.4.jpg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Map 11.1.jpg"/>
          <p:cNvPicPr/>
          <p:nvPr/>
        </p:nvPicPr>
        <p:blipFill>
          <a:blip r:embed="rId1"/>
          <a:stretch/>
        </p:blipFill>
        <p:spPr>
          <a:xfrm>
            <a:off x="2540160" y="0"/>
            <a:ext cx="406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6:31Z</dcterms:created>
  <dc:creator>conversion</dc:creator>
  <dc:description/>
  <dc:language>en-US</dc:language>
  <cp:lastModifiedBy>conversion</cp:lastModifiedBy>
  <dcterms:modified xsi:type="dcterms:W3CDTF">2014-04-04T05:36:58Z</dcterms:modified>
  <cp:revision>1</cp:revision>
  <dc:subject/>
  <dc:title>Slide 1</dc:title>
</cp:coreProperties>
</file>