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102-80FE-4DDA-A60A-7BDB8303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A13-7C6E-4ED1-8BB6-8E9A32D4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BC1-3B1C-4A23-97B2-1AC52C5A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48F-701E-4E5B-8C88-A9974BC1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D1F-8671-40CB-A438-2D6D8739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642-7F23-40AF-BD70-1754A0FE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237-BBB9-4BCE-BB9F-F00394C4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C4D-B15B-4629-951E-F1273AAD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DA4-58BD-4C2C-94F5-D678375C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35D-DCD1-432B-B603-64A2C702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40C-DB2E-4C9D-A74A-BF880ECA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CBB-A5B0-4F9E-BD7E-4DDBA9E8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EE22-7B26-4CD5-B447-7708BF7EF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Box 9.1.jpg"/>
          <p:cNvPicPr/>
          <p:nvPr/>
        </p:nvPicPr>
        <p:blipFill>
          <a:blip r:embed="rId1"/>
          <a:stretch/>
        </p:blipFill>
        <p:spPr>
          <a:xfrm>
            <a:off x="1982880" y="0"/>
            <a:ext cx="517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Figure 9.1.jpg"/>
          <p:cNvPicPr/>
          <p:nvPr/>
        </p:nvPicPr>
        <p:blipFill>
          <a:blip r:embed="rId1"/>
          <a:stretch/>
        </p:blipFill>
        <p:spPr>
          <a:xfrm>
            <a:off x="1763640" y="0"/>
            <a:ext cx="56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Table 9.1.jpg"/>
          <p:cNvPicPr/>
          <p:nvPr/>
        </p:nvPicPr>
        <p:blipFill>
          <a:blip r:embed="rId1"/>
          <a:stretch/>
        </p:blipFill>
        <p:spPr>
          <a:xfrm>
            <a:off x="0" y="893880"/>
            <a:ext cx="914400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Table 9.2.jpg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Table 9.3.jpg"/>
          <p:cNvPicPr/>
          <p:nvPr/>
        </p:nvPicPr>
        <p:blipFill>
          <a:blip r:embed="rId1"/>
          <a:stretch/>
        </p:blipFill>
        <p:spPr>
          <a:xfrm>
            <a:off x="0" y="1673280"/>
            <a:ext cx="9144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eebe_2e_Map 9.1.jpg"/>
          <p:cNvPicPr/>
          <p:nvPr/>
        </p:nvPicPr>
        <p:blipFill>
          <a:blip r:embed="rId1"/>
          <a:stretch/>
        </p:blipFill>
        <p:spPr>
          <a:xfrm>
            <a:off x="115920" y="0"/>
            <a:ext cx="891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34:23Z</dcterms:created>
  <dc:creator>conversion</dc:creator>
  <dc:description/>
  <dc:language>en-US</dc:language>
  <cp:lastModifiedBy>conversion</cp:lastModifiedBy>
  <dcterms:modified xsi:type="dcterms:W3CDTF">2014-04-04T05:34:47Z</dcterms:modified>
  <cp:revision>1</cp:revision>
  <dc:subject/>
  <dc:title>Slide 1</dc:title>
</cp:coreProperties>
</file>