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9DE-D6FD-4288-AD62-D2B7128B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0BB-A01B-4620-9301-CEA4AC86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A507-71F1-49C0-83A6-026B810C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0A3-80AC-4137-A752-01C6CB52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10F-B13A-4595-A07B-BF31915A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B70-77C8-4B1D-AE40-ABDFAF36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47B-B68F-4ADA-8B2B-67CD3CD7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461-B4E3-491A-8170-A5786AA4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109-2EB0-4B87-92F7-657DFDFB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250-D8C6-40F4-A195-C8604672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ACC-F3D7-4A2F-BC85-C43986FA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696-E5FC-4A83-AF81-02B4DBC4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309B-3455-43D8-9995-0135D1684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Beebe_2e_Table 13.1.jpg"/>
          <p:cNvPicPr/>
          <p:nvPr/>
        </p:nvPicPr>
        <p:blipFill>
          <a:blip r:embed="rId1"/>
          <a:stretch/>
        </p:blipFill>
        <p:spPr>
          <a:xfrm>
            <a:off x="0" y="784080"/>
            <a:ext cx="914400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eebe_2e_Table 13.2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eebe_2e_Table 13.3.jpg"/>
          <p:cNvPicPr/>
          <p:nvPr/>
        </p:nvPicPr>
        <p:blipFill>
          <a:blip r:embed="rId1"/>
          <a:stretch/>
        </p:blipFill>
        <p:spPr>
          <a:xfrm>
            <a:off x="0" y="1011240"/>
            <a:ext cx="91440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5:43:26Z</dcterms:created>
  <dc:creator>conversion</dc:creator>
  <dc:description/>
  <dc:language>en-US</dc:language>
  <cp:lastModifiedBy>conversion</cp:lastModifiedBy>
  <dcterms:modified xsi:type="dcterms:W3CDTF">2014-04-04T05:43:58Z</dcterms:modified>
  <cp:revision>1</cp:revision>
  <dc:subject/>
  <dc:title>Slide 1</dc:title>
</cp:coreProperties>
</file>