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AC0-C2BB-455D-B41B-A5AAED7F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9D7-BB81-4E73-8663-01DF002D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6C8-518D-4A09-B85E-5B13F4A8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022-24F3-4E54-A55D-1AD2441F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70A-C249-4F17-8DFD-2F2D943D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774-F112-4225-968D-4F1FFB7F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E29-76E5-4243-9B11-343D5AA2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5B2-7AFF-4B74-B126-7E51053E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B37-F925-44DB-A455-350FA8B2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3B8-26B8-472F-86BE-1B91C46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108-1B72-4984-9CE8-6E8D9341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055-1794-4B2A-B029-F3555B3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9F69-3E1E-4B46-9F97-4C168DF7C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Figure 5.1.jpg"/>
          <p:cNvPicPr/>
          <p:nvPr/>
        </p:nvPicPr>
        <p:blipFill>
          <a:blip r:embed="rId1"/>
          <a:stretch/>
        </p:blipFill>
        <p:spPr>
          <a:xfrm>
            <a:off x="735120" y="0"/>
            <a:ext cx="76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Figure 5.2.jpg"/>
          <p:cNvPicPr/>
          <p:nvPr/>
        </p:nvPicPr>
        <p:blipFill>
          <a:blip r:embed="rId1"/>
          <a:stretch/>
        </p:blipFill>
        <p:spPr>
          <a:xfrm>
            <a:off x="725400" y="0"/>
            <a:ext cx="76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Table 5.1.jpg"/>
          <p:cNvPicPr/>
          <p:nvPr/>
        </p:nvPicPr>
        <p:blipFill>
          <a:blip r:embed="rId1"/>
          <a:stretch/>
        </p:blipFill>
        <p:spPr>
          <a:xfrm>
            <a:off x="0" y="746280"/>
            <a:ext cx="9144000" cy="53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5.2.jpg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5.3.jpg"/>
          <p:cNvPicPr/>
          <p:nvPr/>
        </p:nvPicPr>
        <p:blipFill>
          <a:blip r:embed="rId1"/>
          <a:stretch/>
        </p:blipFill>
        <p:spPr>
          <a:xfrm>
            <a:off x="211140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Table 5.3(Continued).jpg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30:43Z</dcterms:created>
  <dc:creator>conversion</dc:creator>
  <dc:description/>
  <dc:language>en-US</dc:language>
  <cp:lastModifiedBy>conversion</cp:lastModifiedBy>
  <dcterms:modified xsi:type="dcterms:W3CDTF">2014-04-04T05:31:00Z</dcterms:modified>
  <cp:revision>1</cp:revision>
  <dc:subject/>
  <dc:title>Slide 1</dc:title>
</cp:coreProperties>
</file>