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6A5-CD7C-4BDF-AC83-A23406EB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12C-6863-490B-BBA5-34A2F2E1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036-E83E-4713-8804-C07AD505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DA3-EB5D-4892-89AB-6F7EA105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7C8-8985-4B4E-B335-550DF809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BAE-1C66-4BF1-93E4-64B88683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6CF-C401-432F-8968-0AE45020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258-D5AE-40D7-91EA-1C4408DE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B3A-30FF-421E-A2EF-6389BEFF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6B6-0E51-4843-BA3C-AAB6E340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ADD-8CC3-46AF-AB97-7E1C8E5F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789-674C-4B96-83A1-59DE24B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D222-391E-4936-8E0A-23D44A412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Box 2.1.jpg"/>
          <p:cNvPicPr/>
          <p:nvPr/>
        </p:nvPicPr>
        <p:blipFill>
          <a:blip r:embed="rId1"/>
          <a:stretch/>
        </p:blipFill>
        <p:spPr>
          <a:xfrm>
            <a:off x="0" y="2171880"/>
            <a:ext cx="9144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Box 2.1(Continued).jpg"/>
          <p:cNvPicPr/>
          <p:nvPr/>
        </p:nvPicPr>
        <p:blipFill>
          <a:blip r:embed="rId1"/>
          <a:stretch/>
        </p:blipFill>
        <p:spPr>
          <a:xfrm>
            <a:off x="2563920" y="0"/>
            <a:ext cx="401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Box 2.1(Continued 1).jpg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2.1.jpg"/>
          <p:cNvPicPr/>
          <p:nvPr/>
        </p:nvPicPr>
        <p:blipFill>
          <a:blip r:embed="rId1"/>
          <a:stretch/>
        </p:blipFill>
        <p:spPr>
          <a:xfrm>
            <a:off x="0" y="1496880"/>
            <a:ext cx="914400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2.2.jpg"/>
          <p:cNvPicPr/>
          <p:nvPr/>
        </p:nvPicPr>
        <p:blipFill>
          <a:blip r:embed="rId1"/>
          <a:stretch/>
        </p:blipFill>
        <p:spPr>
          <a:xfrm>
            <a:off x="538200" y="0"/>
            <a:ext cx="806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27:52Z</dcterms:created>
  <dc:creator>conversion</dc:creator>
  <dc:description/>
  <dc:language>en-US</dc:language>
  <cp:lastModifiedBy>conversion</cp:lastModifiedBy>
  <dcterms:modified xsi:type="dcterms:W3CDTF">2014-04-04T05:28:14Z</dcterms:modified>
  <cp:revision>1</cp:revision>
  <dc:subject/>
  <dc:title>Slide 1</dc:title>
</cp:coreProperties>
</file>