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5CF-5827-41E9-9DCB-54D36F7C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16D-9FC7-40B7-8CEC-4D2B37D1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07F-E280-4D3A-9D54-48980EE4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DC7-4E60-4137-AEAB-3C515AD9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69D-559A-4F01-AF30-D4010763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D7AF-817F-430D-B824-E4190435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E3B-C181-4AAF-856C-AC101CB6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BA9-C4A1-462D-9951-CE43414F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E94-8A8C-453E-AA55-C4298299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DF6-F65F-4B0E-A76F-32FF02ED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9A6-2750-461E-AE27-4C7646D4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B88-3A47-4704-8B78-E99BC563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F650-BB71-463B-8358-5F3137624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Figure 8.1.jpg"/>
          <p:cNvPicPr/>
          <p:nvPr/>
        </p:nvPicPr>
        <p:blipFill>
          <a:blip r:embed="rId1"/>
          <a:stretch/>
        </p:blipFill>
        <p:spPr>
          <a:xfrm>
            <a:off x="2522520" y="0"/>
            <a:ext cx="40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Table 8.1.jpg"/>
          <p:cNvPicPr/>
          <p:nvPr/>
        </p:nvPicPr>
        <p:blipFill>
          <a:blip r:embed="rId1"/>
          <a:stretch/>
        </p:blipFill>
        <p:spPr>
          <a:xfrm>
            <a:off x="0" y="1179360"/>
            <a:ext cx="91440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eebe_2e_Map 8.1.jpg"/>
          <p:cNvPicPr/>
          <p:nvPr/>
        </p:nvPicPr>
        <p:blipFill>
          <a:blip r:embed="rId1"/>
          <a:stretch/>
        </p:blipFill>
        <p:spPr>
          <a:xfrm>
            <a:off x="1306440" y="0"/>
            <a:ext cx="653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5:33:36Z</dcterms:created>
  <dc:creator>conversion</dc:creator>
  <dc:description/>
  <dc:language>en-US</dc:language>
  <cp:lastModifiedBy>conversion</cp:lastModifiedBy>
  <dcterms:modified xsi:type="dcterms:W3CDTF">2014-04-04T05:33:48Z</dcterms:modified>
  <cp:revision>1</cp:revision>
  <dc:subject/>
  <dc:title>Slide 1</dc:title>
</cp:coreProperties>
</file>