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14AE-4C01-4463-AD86-B0818D715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0FC9-7649-4C93-A8B7-3BF9C4D1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C804-818F-4B3F-8554-D7159B022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2633-4674-49AE-9751-1B1498E78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3E5B-EF3F-4141-A1BE-E261CA08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7BAE-B84D-494D-A6E3-06A1765C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1FED-6E7E-4D37-A4D6-6FE01D6B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D5E6-221D-4A77-97F8-239D80B0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A431-A4AA-47F1-B2CF-295506B5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B1D5-7237-48EE-8D37-7F2EA87D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E1AE-21AD-4CAE-9AE5-9B4B5F01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8038-33D1-4B29-BF21-A0AB35A8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6424-2104-4950-83D3-EC28C51426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Beebe_2e_Figure 1.1.jpg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62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Beebe_2e_Figure 1.2.jpg"/>
          <p:cNvPicPr/>
          <p:nvPr/>
        </p:nvPicPr>
        <p:blipFill>
          <a:blip r:embed="rId1"/>
          <a:stretch/>
        </p:blipFill>
        <p:spPr>
          <a:xfrm>
            <a:off x="1735200" y="0"/>
            <a:ext cx="5672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Beebe_2e_Figure 1.3.jpg"/>
          <p:cNvPicPr/>
          <p:nvPr/>
        </p:nvPicPr>
        <p:blipFill>
          <a:blip r:embed="rId1"/>
          <a:stretch/>
        </p:blipFill>
        <p:spPr>
          <a:xfrm>
            <a:off x="1936800" y="0"/>
            <a:ext cx="5268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Beebe_2e_Table 1.1.jpg"/>
          <p:cNvPicPr/>
          <p:nvPr/>
        </p:nvPicPr>
        <p:blipFill>
          <a:blip r:embed="rId1"/>
          <a:stretch/>
        </p:blipFill>
        <p:spPr>
          <a:xfrm>
            <a:off x="0" y="1614600"/>
            <a:ext cx="914400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Beebe_2e_Table 1.2.jpg"/>
          <p:cNvPicPr/>
          <p:nvPr/>
        </p:nvPicPr>
        <p:blipFill>
          <a:blip r:embed="rId1"/>
          <a:stretch/>
        </p:blipFill>
        <p:spPr>
          <a:xfrm>
            <a:off x="216000" y="0"/>
            <a:ext cx="8710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4T05:25:35Z</dcterms:created>
  <dc:creator>conversion</dc:creator>
  <dc:description/>
  <dc:language>en-US</dc:language>
  <cp:lastModifiedBy>conversion</cp:lastModifiedBy>
  <dcterms:modified xsi:type="dcterms:W3CDTF">2014-04-04T05:27:05Z</dcterms:modified>
  <cp:revision>1</cp:revision>
  <dc:subject/>
  <dc:title>Slide 1</dc:title>
</cp:coreProperties>
</file>