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431-9857-4B14-ABAD-43A14234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E42A-7541-4D4F-BC78-ACDFE3DA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713-4AA7-4B43-99EE-6455965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5BD-5B75-4608-830C-EEA66EB0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115-D48B-4F83-AB76-50EEEA1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A27-3E91-4F25-B543-04740063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535-E656-4D77-A705-7716F7C9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142-464D-421A-9B8F-92FD337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87F-51AA-41AA-84CB-0BF8DA11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36F-E5EF-4119-B758-18006A3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9A3-0BE5-49D2-A35D-C52E9A79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53B-D89B-484D-B69E-1B49B36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99E0-5C84-476B-AF60-13E56911E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4e_Figure 1-1.jpg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4e_Figure 1-2.jpg"/>
          <p:cNvPicPr/>
          <p:nvPr/>
        </p:nvPicPr>
        <p:blipFill>
          <a:blip r:embed="rId1"/>
          <a:stretch/>
        </p:blipFill>
        <p:spPr>
          <a:xfrm>
            <a:off x="0" y="1698480"/>
            <a:ext cx="91440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4e_Figure 1-3.jpg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4e_Figure 1-4.jpg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4e_Figure 1-5.jpg"/>
          <p:cNvPicPr/>
          <p:nvPr/>
        </p:nvPicPr>
        <p:blipFill>
          <a:blip r:embed="rId1"/>
          <a:stretch/>
        </p:blipFill>
        <p:spPr>
          <a:xfrm>
            <a:off x="811080" y="0"/>
            <a:ext cx="752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0:01:40Z</dcterms:created>
  <dc:creator>Administrator</dc:creator>
  <dc:description/>
  <dc:language>en-US</dc:language>
  <cp:lastModifiedBy>Administrator</cp:lastModifiedBy>
  <dcterms:modified xsi:type="dcterms:W3CDTF">2012-09-13T10:05:47Z</dcterms:modified>
  <cp:revision>1</cp:revision>
  <dc:subject/>
  <dc:title>Slide 1</dc:title>
</cp:coreProperties>
</file>