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F4E-6FB1-49DE-821F-306DF031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14F-D8D4-458B-B379-5F4DDBC4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165-9E6D-4DBE-8526-2CA34939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5632-FE6B-408E-B304-EAF54B14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6218-025F-43A3-ACC0-CC3FB74B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76A-2FA5-454F-B18F-790F368A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4F99-D45E-4336-8142-4EFA7EB1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44A-4813-4D1A-B5E0-F66312B6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395-8B00-4F19-8879-AFB27587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CDB-2629-4C02-8D06-FDEC25BC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63EF-ACDF-4CD0-BFCD-1F4FCE30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B997-24C9-4974-BC03-C9ED2EE1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0DDB-945F-4AB1-BF87-5A71AE990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4e_Figure 13-1.jpg"/>
          <p:cNvPicPr/>
          <p:nvPr/>
        </p:nvPicPr>
        <p:blipFill>
          <a:blip r:embed="rId1"/>
          <a:stretch/>
        </p:blipFill>
        <p:spPr>
          <a:xfrm>
            <a:off x="0" y="1311120"/>
            <a:ext cx="914400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0:53:09Z</dcterms:created>
  <dc:creator>Administrator</dc:creator>
  <dc:description/>
  <dc:language>en-US</dc:language>
  <cp:lastModifiedBy>Administrator</cp:lastModifiedBy>
  <dcterms:modified xsi:type="dcterms:W3CDTF">2012-09-13T10:53:35Z</dcterms:modified>
  <cp:revision>1</cp:revision>
  <dc:subject/>
  <dc:title>Slide 1</dc:title>
</cp:coreProperties>
</file>