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086-F3C8-4154-92C0-A003A83C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69E-1C13-48A9-8616-860D4CB1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E18-9176-4C14-85D0-71EC38D5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023-8A32-407B-8137-9EBC0EF7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E2D-719C-4892-BE16-1BE41C8B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848-4069-4460-B79B-5F7E4C36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6C2-95CF-47EB-A3FC-3BE3CE58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2D3-0BA5-4699-BEC2-E832FA69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41B-2A20-46CC-B26C-930C836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3D5-DB25-4888-B5A3-3D88FB4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192-00F3-47FC-ABDE-C811728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B92-A6C6-4392-805E-E5A50E7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BEA4-F8A2-4ADF-B81F-54BC3D7AA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11-1.jpg"/>
          <p:cNvPicPr/>
          <p:nvPr/>
        </p:nvPicPr>
        <p:blipFill>
          <a:blip r:embed="rId1"/>
          <a:stretch/>
        </p:blipFill>
        <p:spPr>
          <a:xfrm>
            <a:off x="727200" y="0"/>
            <a:ext cx="768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11-2.jpg"/>
          <p:cNvPicPr/>
          <p:nvPr/>
        </p:nvPicPr>
        <p:blipFill>
          <a:blip r:embed="rId1"/>
          <a:stretch/>
        </p:blipFill>
        <p:spPr>
          <a:xfrm>
            <a:off x="808200" y="0"/>
            <a:ext cx="752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11-3.jpg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4e_Figure 11-4.jpg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50:39Z</dcterms:created>
  <dc:creator>Administrator</dc:creator>
  <dc:description/>
  <dc:language>en-US</dc:language>
  <cp:lastModifiedBy>Administrator</cp:lastModifiedBy>
  <dcterms:modified xsi:type="dcterms:W3CDTF">2012-09-13T10:51:04Z</dcterms:modified>
  <cp:revision>1</cp:revision>
  <dc:subject/>
  <dc:title>Slide 1</dc:title>
</cp:coreProperties>
</file>