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8D5-DC3E-40A0-A4F7-D23BA502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C14-3573-49E4-B0E4-64044177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D42-C2AE-4CDE-9D62-471C0B1A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F47-3937-4798-8F50-C791A0C9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CC8-140E-4503-AE9F-0E0AD8F2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3EA-014C-4A98-8CB5-4970136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6DE-4C73-4F47-9A72-A58657F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1C5-3B49-4BFD-95C0-5CC587E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BC7-6499-4C39-8B78-ACE07981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C9E-0758-4AA0-8F5E-00A350D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16F-7519-4D06-A2DC-4ECC073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E50-F486-492A-B9EC-79B3137B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D33-D7FD-4F9D-B73C-F3BC0A6F8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5-1.jp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 4e_Table 15-1.jpg"/>
          <p:cNvPicPr/>
          <p:nvPr/>
        </p:nvPicPr>
        <p:blipFill>
          <a:blip r:embed="rId1"/>
          <a:stretch/>
        </p:blipFill>
        <p:spPr>
          <a:xfrm>
            <a:off x="1393920" y="0"/>
            <a:ext cx="635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57:46Z</dcterms:created>
  <dc:creator>Administrator</dc:creator>
  <dc:description/>
  <dc:language>en-US</dc:language>
  <cp:lastModifiedBy>Administrator</cp:lastModifiedBy>
  <dcterms:modified xsi:type="dcterms:W3CDTF">2012-09-13T10:58:27Z</dcterms:modified>
  <cp:revision>1</cp:revision>
  <dc:subject/>
  <dc:title>Slide 1</dc:title>
</cp:coreProperties>
</file>