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7DD6-AD27-4898-9A10-73B40B495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DE2F-7C95-4189-A066-EE742674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E019-BEED-4613-974F-0B5FC171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35DB-504B-4342-9E20-C19D370E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650C-B904-4F44-A27A-BA6DD66F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2BB3-3313-40E5-A220-7878018B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F629-1E80-4C7E-B251-75877977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4DFD-35B7-4C4A-9439-670E9CE3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77B9-5D24-4223-8743-D92833AD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A68D-2ECA-4E4F-96EF-BEF57DED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9B62-4B08-4C83-977E-C377650A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2FF-7309-44F4-AD06-F294A36E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9963-898A-4AA8-825C-DD42E2DF7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4e_Figure 2-1.jpg"/>
          <p:cNvPicPr/>
          <p:nvPr/>
        </p:nvPicPr>
        <p:blipFill>
          <a:blip r:embed="rId1"/>
          <a:stretch/>
        </p:blipFill>
        <p:spPr>
          <a:xfrm>
            <a:off x="0" y="290520"/>
            <a:ext cx="91440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4e_Figure 2-2.jpg"/>
          <p:cNvPicPr/>
          <p:nvPr/>
        </p:nvPicPr>
        <p:blipFill>
          <a:blip r:embed="rId1"/>
          <a:stretch/>
        </p:blipFill>
        <p:spPr>
          <a:xfrm>
            <a:off x="237960" y="0"/>
            <a:ext cx="866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4e_Figure 2-3.jpg"/>
          <p:cNvPicPr/>
          <p:nvPr/>
        </p:nvPicPr>
        <p:blipFill>
          <a:blip r:embed="rId1"/>
          <a:stretch/>
        </p:blipFill>
        <p:spPr>
          <a:xfrm>
            <a:off x="0" y="1293840"/>
            <a:ext cx="91440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lark_4e_Figure 2-4.jpg"/>
          <p:cNvPicPr/>
          <p:nvPr/>
        </p:nvPicPr>
        <p:blipFill>
          <a:blip r:embed="rId1"/>
          <a:stretch/>
        </p:blipFill>
        <p:spPr>
          <a:xfrm>
            <a:off x="0" y="1452600"/>
            <a:ext cx="91440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0:01:40Z</dcterms:created>
  <dc:creator>Administrator</dc:creator>
  <dc:description/>
  <dc:language>en-US</dc:language>
  <cp:lastModifiedBy>Administrator</cp:lastModifiedBy>
  <dcterms:modified xsi:type="dcterms:W3CDTF">2012-09-13T10:13:12Z</dcterms:modified>
  <cp:revision>2</cp:revision>
  <dc:subject/>
  <dc:title>Slide 1</dc:title>
</cp:coreProperties>
</file>