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A59F-8278-43CA-9DBE-8A015A11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B5F4-BA5E-4FC4-AD7C-8D735191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E44-1CD2-4835-9180-FC810D8D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9BA6-2A43-4016-9062-6C12EBE3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1766-5C71-414C-99E7-85BBF229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465-EF0C-4999-BD65-CE4726DC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C917-AD76-4FAB-A06D-5E4ABFDC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5BA9-5FF1-4F71-AB64-41E28471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228-C759-4FD2-A4C3-CF2348F9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818-8DEE-4623-B2A9-9AA332FF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7A2-C965-486C-9CF9-96884025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CEB8-A9A0-4171-A6BF-ADA22712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D3FA-705E-4044-A20E-CD1FDEEDC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4e_Figure 7-1.jpg"/>
          <p:cNvPicPr/>
          <p:nvPr/>
        </p:nvPicPr>
        <p:blipFill>
          <a:blip r:embed="rId1"/>
          <a:stretch/>
        </p:blipFill>
        <p:spPr>
          <a:xfrm>
            <a:off x="0" y="1519200"/>
            <a:ext cx="91440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0:44:45Z</dcterms:created>
  <dc:creator>Administrator</dc:creator>
  <dc:description/>
  <dc:language>en-US</dc:language>
  <cp:lastModifiedBy>Administrator</cp:lastModifiedBy>
  <dcterms:modified xsi:type="dcterms:W3CDTF">2012-09-13T10:45:00Z</dcterms:modified>
  <cp:revision>1</cp:revision>
  <dc:subject/>
  <dc:title>Slide 1</dc:title>
</cp:coreProperties>
</file>