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CC3-B42E-4AE0-BC5F-89EE92E5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88F-3239-4B39-AE2B-0C129991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B47-9BD3-43F6-9737-3154508E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AEA-393A-49A3-8EF8-4D5E8499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725-5845-4829-8B6E-C7814528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F13-B0E8-457C-9DB9-AD026535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7C3-C9A8-46D9-9236-6C7459E2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6FD-3269-4F8F-9A12-197A0B8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8BF-831A-416E-B4B1-17046580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1B2-3945-4DC9-A95A-DC92D03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106-9E35-44BA-BCA6-B5304DB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0F9-6B36-4B30-960E-95B0E7A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C42-2783-43D5-A4D0-5B56FB20C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6-1.jpg"/>
          <p:cNvPicPr/>
          <p:nvPr/>
        </p:nvPicPr>
        <p:blipFill>
          <a:blip r:embed="rId1"/>
          <a:stretch/>
        </p:blipFill>
        <p:spPr>
          <a:xfrm>
            <a:off x="0" y="1625760"/>
            <a:ext cx="914400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6-2.jpg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6-3.jpg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43:33Z</dcterms:created>
  <dc:creator>Administrator</dc:creator>
  <dc:description/>
  <dc:language>en-US</dc:language>
  <cp:lastModifiedBy>Administrator</cp:lastModifiedBy>
  <dcterms:modified xsi:type="dcterms:W3CDTF">2012-09-13T10:43:54Z</dcterms:modified>
  <cp:revision>1</cp:revision>
  <dc:subject/>
  <dc:title>Slide 1</dc:title>
</cp:coreProperties>
</file>