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3661-3FEA-418C-888D-A4117296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DF82-A3D2-4444-9144-BDF62CEE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9422-FDFF-4EE9-ADB8-D0FCF76F8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AF2D-457C-452B-AD4B-3A30FAF2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7968-B43D-4E7F-9E3D-E047E8B5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9A54-2177-4A61-B4EF-2BB6B1C3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F918-FBB7-482C-8BB5-2694BC12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243A-F18F-47D2-8E2B-FED6BF8C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CB5D-C0BE-42D5-B85E-6F2211C8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69BD-BD6C-4B7C-9462-8C07D50C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64D6-F66E-4B04-87F0-56C6B1B0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53AE-750C-4630-8840-EE9CFC3D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0750-DD7B-4C9F-870D-990396922F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lark_4e_Figure 10-1.jpg"/>
          <p:cNvPicPr/>
          <p:nvPr/>
        </p:nvPicPr>
        <p:blipFill>
          <a:blip r:embed="rId1"/>
          <a:stretch/>
        </p:blipFill>
        <p:spPr>
          <a:xfrm>
            <a:off x="0" y="506520"/>
            <a:ext cx="914400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lark_ 4e_Table 10-1.jpg"/>
          <p:cNvPicPr/>
          <p:nvPr/>
        </p:nvPicPr>
        <p:blipFill>
          <a:blip r:embed="rId1"/>
          <a:stretch/>
        </p:blipFill>
        <p:spPr>
          <a:xfrm>
            <a:off x="0" y="65160"/>
            <a:ext cx="9144000" cy="67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3T10:48:42Z</dcterms:created>
  <dc:creator>Administrator</dc:creator>
  <dc:description/>
  <dc:language>en-US</dc:language>
  <cp:lastModifiedBy>Administrator</cp:lastModifiedBy>
  <dcterms:modified xsi:type="dcterms:W3CDTF">2012-09-13T10:49:05Z</dcterms:modified>
  <cp:revision>1</cp:revision>
  <dc:subject/>
  <dc:title>Slide 1</dc:title>
</cp:coreProperties>
</file>