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CBF-465F-4F16-8BD3-05F6745B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FCC-083E-49A7-B02E-E48C4C63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B4C-2535-43FA-977B-FE2500CA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2B3-B374-4EC1-8CD6-E99E3501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105-68FD-4B4F-8175-99847C70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FF1-E0C1-4AE0-B3C8-9215C403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46C-EC91-4A80-BBC2-DDC0697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206-4779-4AB4-8D86-82622F88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108-9D17-47BA-B60B-7D81E5E2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74C-8819-4CF7-8403-1218B59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704-6560-4875-A26A-D865B50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832-FEB5-4316-A6EA-3827D281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63C6-F713-4D6D-8FFC-D3CBD4E6E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9-1.jpg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46:40Z</dcterms:created>
  <dc:creator>Administrator</dc:creator>
  <dc:description/>
  <dc:language>en-US</dc:language>
  <cp:lastModifiedBy>Administrator</cp:lastModifiedBy>
  <dcterms:modified xsi:type="dcterms:W3CDTF">2012-09-13T10:47:18Z</dcterms:modified>
  <cp:revision>1</cp:revision>
  <dc:subject/>
  <dc:title>Slide 1</dc:title>
</cp:coreProperties>
</file>