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464-DD2E-432F-BF71-1A9A6C92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529-9BAD-410C-88CF-49EF076C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8D5-1C71-4FCC-8A42-2811A66D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409-E7BF-43D3-BF66-2A151B61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21C-EBA0-4613-9212-A183D5E0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8429-A40F-42FD-B41A-6F2C14CC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6375-D312-4246-B899-BC4187B1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AC0-4E53-4108-9F33-7498D428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46F-D846-477B-9C0B-1BF47159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651-B327-476F-A24E-BAE33C32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C35-91AD-4EA9-8029-B35FD4F1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305-5C14-4D28-858A-DF2C6694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DDD5-971F-4D1C-B2CC-096753D88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4e_Figure 8-1.jpg"/>
          <p:cNvPicPr/>
          <p:nvPr/>
        </p:nvPicPr>
        <p:blipFill>
          <a:blip r:embed="rId1"/>
          <a:stretch/>
        </p:blipFill>
        <p:spPr>
          <a:xfrm>
            <a:off x="0" y="282600"/>
            <a:ext cx="914400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4e_Figure 8-2.jpg"/>
          <p:cNvPicPr/>
          <p:nvPr/>
        </p:nvPicPr>
        <p:blipFill>
          <a:blip r:embed="rId1"/>
          <a:stretch/>
        </p:blipFill>
        <p:spPr>
          <a:xfrm>
            <a:off x="0" y="1420920"/>
            <a:ext cx="9144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4e_Figure 8-3.jpg"/>
          <p:cNvPicPr/>
          <p:nvPr/>
        </p:nvPicPr>
        <p:blipFill>
          <a:blip r:embed="rId1"/>
          <a:stretch/>
        </p:blipFill>
        <p:spPr>
          <a:xfrm>
            <a:off x="0" y="334800"/>
            <a:ext cx="914400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4e_Figure 8-4.jpg"/>
          <p:cNvPicPr/>
          <p:nvPr/>
        </p:nvPicPr>
        <p:blipFill>
          <a:blip r:embed="rId1"/>
          <a:stretch/>
        </p:blipFill>
        <p:spPr>
          <a:xfrm>
            <a:off x="0" y="27000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4e_Figure 8-5.jpg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0:45:33Z</dcterms:created>
  <dc:creator>Administrator</dc:creator>
  <dc:description/>
  <dc:language>en-US</dc:language>
  <cp:lastModifiedBy>Administrator</cp:lastModifiedBy>
  <dcterms:modified xsi:type="dcterms:W3CDTF">2012-09-13T10:46:12Z</dcterms:modified>
  <cp:revision>1</cp:revision>
  <dc:subject/>
  <dc:title>Slide 1</dc:title>
</cp:coreProperties>
</file>