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CCA-9602-4149-871E-95656CED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832-71BA-4FEC-84FB-8AE59149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E27-6584-4067-9FE5-1EDC5EB0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D5B-D9E0-4FB9-BD25-8CA97DFC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22B-97DB-451D-94F1-C9F31B73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0B7-7426-4BFD-A4DC-E2837168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DA9-80E5-4999-997A-633E7B54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FAF-4493-4443-9197-5EB590C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F55-102E-4B4B-A07E-31078C1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B2B-C84D-4B5B-90A1-1AEFDD61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CEE-F484-46D1-BFE8-8DFF5A3F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3A6-B843-429B-95DD-2E6E8CC7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4CDA-B492-43C9-8B50-43345BA9C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4-1.jpg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4-2.jpg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20:17Z</dcterms:created>
  <dc:creator>Administrator</dc:creator>
  <dc:description/>
  <dc:language>en-US</dc:language>
  <cp:lastModifiedBy>Administrator</cp:lastModifiedBy>
  <dcterms:modified xsi:type="dcterms:W3CDTF">2012-09-13T10:21:15Z</dcterms:modified>
  <cp:revision>1</cp:revision>
  <dc:subject/>
  <dc:title>Slide 1</dc:title>
</cp:coreProperties>
</file>