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66F-568A-4228-B4CB-3E494F95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3C7-754C-4D4B-9401-0D5113C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577-D632-4732-A748-107DBECC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F70-ECE1-43F7-8390-54501921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D43-FC02-499E-9292-D3DCBAE0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E38-AE92-403D-856B-C1BD641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9AA-4D2D-4F3E-A8B5-AEC6C98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9C6-37EC-4FFC-A29C-4E8E97C7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04C-AB8C-48AF-912C-68CE670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FC5-53D9-4516-A28F-57F7B0E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1FF-7381-4064-ADCB-AC8971F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2FB-FB01-444B-97D4-A8D0CFA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05A-8EA4-4977-A142-FE08C168F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A1-1.jpg"/>
          <p:cNvPicPr/>
          <p:nvPr/>
        </p:nvPicPr>
        <p:blipFill>
          <a:blip r:embed="rId1"/>
          <a:stretch/>
        </p:blipFill>
        <p:spPr>
          <a:xfrm>
            <a:off x="0" y="123336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A1-2.jpg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A2-1.jpg"/>
          <p:cNvPicPr/>
          <p:nvPr/>
        </p:nvPicPr>
        <p:blipFill>
          <a:blip r:embed="rId1"/>
          <a:stretch/>
        </p:blipFill>
        <p:spPr>
          <a:xfrm>
            <a:off x="0" y="1424160"/>
            <a:ext cx="91440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01:03Z</dcterms:created>
  <dc:creator>Administrator</dc:creator>
  <dc:description/>
  <dc:language>en-US</dc:language>
  <cp:lastModifiedBy>Administrator</cp:lastModifiedBy>
  <dcterms:modified xsi:type="dcterms:W3CDTF">2012-09-13T11:02:02Z</dcterms:modified>
  <cp:revision>1</cp:revision>
  <dc:subject/>
  <dc:title>Slide 1</dc:title>
</cp:coreProperties>
</file>