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8C1-E18D-4E90-A6B7-AA992DD4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AE7-8230-4E0E-AEBA-686A8849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0EF-E106-44A5-92BF-4A90E297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077-DF44-4E20-B444-55BF4758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CCD-8AC7-4F2E-9CFE-9C2313E6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5C7-B49B-40AC-B66C-21356B06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668-7B99-41F7-95B7-E278263D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774-1447-4B7B-94F7-F7DB814E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D84-9891-455B-A148-D453A3EF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63A4-A3C5-4BF3-8CB5-9906F9BD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F46-F744-4E45-BFFA-4F9A982D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411-C006-4071-A7A5-230512BC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3842-681F-4D1B-B135-D95626335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Figure 9.1.jpg"/>
          <p:cNvPicPr/>
          <p:nvPr/>
        </p:nvPicPr>
        <p:blipFill>
          <a:blip r:embed="rId1"/>
          <a:stretch/>
        </p:blipFill>
        <p:spPr>
          <a:xfrm>
            <a:off x="0" y="334800"/>
            <a:ext cx="9144000" cy="61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Figure 9.2.jpg"/>
          <p:cNvPicPr/>
          <p:nvPr/>
        </p:nvPicPr>
        <p:blipFill>
          <a:blip r:embed="rId1"/>
          <a:stretch/>
        </p:blipFill>
        <p:spPr>
          <a:xfrm>
            <a:off x="0" y="193680"/>
            <a:ext cx="914400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Figure 9.3.jpg"/>
          <p:cNvPicPr/>
          <p:nvPr/>
        </p:nvPicPr>
        <p:blipFill>
          <a:blip r:embed="rId1"/>
          <a:stretch/>
        </p:blipFill>
        <p:spPr>
          <a:xfrm>
            <a:off x="1249200" y="0"/>
            <a:ext cx="664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Figure 9.4.jpg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656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Figure 9.5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lark_Figure 9.6.jpg"/>
          <p:cNvPicPr/>
          <p:nvPr/>
        </p:nvPicPr>
        <p:blipFill>
          <a:blip r:embed="rId1"/>
          <a:stretch/>
        </p:blipFill>
        <p:spPr>
          <a:xfrm>
            <a:off x="461880" y="0"/>
            <a:ext cx="821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lark_Figure 9.7.jpg"/>
          <p:cNvPicPr/>
          <p:nvPr/>
        </p:nvPicPr>
        <p:blipFill>
          <a:blip r:embed="rId1"/>
          <a:stretch/>
        </p:blipFill>
        <p:spPr>
          <a:xfrm>
            <a:off x="0" y="230040"/>
            <a:ext cx="914400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lark_Table 9.1.jpg"/>
          <p:cNvPicPr/>
          <p:nvPr/>
        </p:nvPicPr>
        <p:blipFill>
          <a:blip r:embed="rId1"/>
          <a:stretch/>
        </p:blipFill>
        <p:spPr>
          <a:xfrm>
            <a:off x="328680" y="0"/>
            <a:ext cx="848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8:25:59Z</dcterms:created>
  <dc:creator>Administrator</dc:creator>
  <dc:description/>
  <dc:language>en-US</dc:language>
  <cp:lastModifiedBy>Administrator</cp:lastModifiedBy>
  <dcterms:modified xsi:type="dcterms:W3CDTF">2013-08-19T08:26:22Z</dcterms:modified>
  <cp:revision>1</cp:revision>
  <dc:subject/>
  <dc:title>Slide 1</dc:title>
</cp:coreProperties>
</file>