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D93-5E59-49EB-8B02-DC953FA0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F90-1954-4A3F-BCAA-E3C34837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D48-E7C7-4C3D-9595-0C6774E2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3A4-CF0A-40E7-8971-ECF328BB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145-1A09-48FA-9199-30C4E2A9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F15-8CE1-4D45-839D-61484811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2E0-3C87-43A3-BE32-6D4205BF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7E2-D0CF-46E1-80CD-E60E1831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F9A-7C98-4DB6-9EBC-E52EB964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D39-25F4-497A-A7F6-0A1174F5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AAB-483F-4D22-9AAE-D0EF9AF3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F9B-BB69-4BEF-92A3-9692B997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45CF-3CBF-431C-A77F-518ECDE98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16.1.jpg"/>
          <p:cNvPicPr/>
          <p:nvPr/>
        </p:nvPicPr>
        <p:blipFill>
          <a:blip r:embed="rId1"/>
          <a:stretch/>
        </p:blipFill>
        <p:spPr>
          <a:xfrm>
            <a:off x="530280" y="0"/>
            <a:ext cx="808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32:09Z</dcterms:created>
  <dc:creator>Administrator</dc:creator>
  <dc:description/>
  <dc:language>en-US</dc:language>
  <cp:lastModifiedBy>Administrator</cp:lastModifiedBy>
  <dcterms:modified xsi:type="dcterms:W3CDTF">2013-08-19T08:32:29Z</dcterms:modified>
  <cp:revision>1</cp:revision>
  <dc:subject/>
  <dc:title>Slide 1</dc:title>
</cp:coreProperties>
</file>