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6AC-E9DA-4E5D-A030-62AE4875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44D-A707-4DB7-A0F1-7FA12BD3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891-2E5E-4326-98D5-2D80D0E8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589-97AB-419E-B8CD-2EE634F8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E96-2965-42DD-951D-106EDF9B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E47-6C9F-4EFF-B39F-8A799D79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68E-83E4-4E9D-8532-0C36AA04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25B-07FB-4A2C-A532-A8265DEC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70A-6FF6-4737-800E-90822AA4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30D-9189-4A96-9933-A8D8138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4CE-A134-45BF-85A5-773B056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680-A19A-4A06-A495-1AA4F946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DC4F-8120-43AB-92DF-0C1BA9085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15.1.jpg"/>
          <p:cNvPicPr/>
          <p:nvPr/>
        </p:nvPicPr>
        <p:blipFill>
          <a:blip r:embed="rId1"/>
          <a:stretch/>
        </p:blipFill>
        <p:spPr>
          <a:xfrm>
            <a:off x="750960" y="0"/>
            <a:ext cx="764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31:42Z</dcterms:created>
  <dc:creator>Administrator</dc:creator>
  <dc:description/>
  <dc:language>en-US</dc:language>
  <cp:lastModifiedBy>Administrator</cp:lastModifiedBy>
  <dcterms:modified xsi:type="dcterms:W3CDTF">2013-08-19T08:31:54Z</dcterms:modified>
  <cp:revision>1</cp:revision>
  <dc:subject/>
  <dc:title>Slide 1</dc:title>
</cp:coreProperties>
</file>