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D05-96F1-4491-A955-CDB3FE7A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07F-0259-4EB9-97C9-4127805B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5366-50AB-4DD2-8299-E822021B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9F1-A6C2-4C2F-84CC-7B0F8E5B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050E-4234-4544-A496-5BC1C610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4B6-F89B-4E62-A8BB-B959F722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9C6-ACCD-4646-8201-A83E746F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F4F0-E64B-4CC3-9909-1486A3AF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F21-3D21-440A-B2BE-5D387725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BF2-9F3D-4E99-957F-23B01E9A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918-5B50-49DC-A5B3-4285F8A8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BD3-DB49-4BC7-9B6C-7E1F332E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DC15-192E-4B3D-BD8B-B7DC6C49C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Figure 7.1.jpg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7.2.jpg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7.3.jpg"/>
          <p:cNvPicPr/>
          <p:nvPr/>
        </p:nvPicPr>
        <p:blipFill>
          <a:blip r:embed="rId1"/>
          <a:stretch/>
        </p:blipFill>
        <p:spPr>
          <a:xfrm>
            <a:off x="1685880" y="0"/>
            <a:ext cx="577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7.4.jpg"/>
          <p:cNvPicPr/>
          <p:nvPr/>
        </p:nvPicPr>
        <p:blipFill>
          <a:blip r:embed="rId1"/>
          <a:stretch/>
        </p:blipFill>
        <p:spPr>
          <a:xfrm>
            <a:off x="1166760" y="0"/>
            <a:ext cx="681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8:24:16Z</dcterms:created>
  <dc:creator>Administrator</dc:creator>
  <dc:description/>
  <dc:language>en-US</dc:language>
  <cp:lastModifiedBy>Administrator</cp:lastModifiedBy>
  <dcterms:modified xsi:type="dcterms:W3CDTF">2013-08-19T08:24:37Z</dcterms:modified>
  <cp:revision>1</cp:revision>
  <dc:subject/>
  <dc:title>Slide 1</dc:title>
</cp:coreProperties>
</file>