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351-9426-4CE3-A208-C2A50D5C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393D-7008-4CEB-A9A3-20742BAB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10C-E540-4A06-A85A-20EF2EF9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CE0-F2AD-4EA2-BEFA-3685FCE8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A81-B693-4F6E-96E5-468223D8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1DA-A07C-4772-B797-E8D3BC9A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8E7-3507-4A6D-8A25-D5E1D8BB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FDF2-BE9F-4507-A77D-BF233FF6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3FBD-5081-40C2-A380-0DE79263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8B3-6EC8-481A-9180-A89CC40D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376-7FAC-40F8-B3A0-447E162B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D215-23EE-47AD-B0CE-39BCBB71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E4AE-621C-4998-9E34-70DE56730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Figure 17.1.jpg"/>
          <p:cNvPicPr/>
          <p:nvPr/>
        </p:nvPicPr>
        <p:blipFill>
          <a:blip r:embed="rId1"/>
          <a:stretch/>
        </p:blipFill>
        <p:spPr>
          <a:xfrm>
            <a:off x="0" y="1542960"/>
            <a:ext cx="91440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Figure 17.2.jpg"/>
          <p:cNvPicPr/>
          <p:nvPr/>
        </p:nvPicPr>
        <p:blipFill>
          <a:blip r:embed="rId1"/>
          <a:stretch/>
        </p:blipFill>
        <p:spPr>
          <a:xfrm>
            <a:off x="961920" y="0"/>
            <a:ext cx="721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8:32:41Z</dcterms:created>
  <dc:creator>Administrator</dc:creator>
  <dc:description/>
  <dc:language>en-US</dc:language>
  <cp:lastModifiedBy>Administrator</cp:lastModifiedBy>
  <dcterms:modified xsi:type="dcterms:W3CDTF">2013-08-19T08:32:53Z</dcterms:modified>
  <cp:revision>1</cp:revision>
  <dc:subject/>
  <dc:title>Slide 1</dc:title>
</cp:coreProperties>
</file>