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C55-E214-48F9-880B-16E19EEB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EE2-CA0A-419A-B6AF-D9DB946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8A8-FC39-4AFC-8574-42E2255F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336-A4DC-4FFA-8F0C-59B9E794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6F8-782E-4555-8863-DA3EE346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283-342F-4D23-BD7B-A1258367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B2D-8074-455A-858D-8829460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97C-DBD0-42E7-98CE-E743C9B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031-04C9-4C59-9653-4D4EDEE9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04F-6EE1-4FB9-88D7-76AAEFE8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E2B-DE4C-4899-9E32-AD06E6C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E5D-8914-4A29-A01A-5DEC955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2847-8D5B-4C8F-88C4-DB9064A11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lark_Figure 1.1.jpg"/>
          <p:cNvPicPr/>
          <p:nvPr/>
        </p:nvPicPr>
        <p:blipFill>
          <a:blip r:embed="rId1"/>
          <a:stretch/>
        </p:blipFill>
        <p:spPr>
          <a:xfrm>
            <a:off x="525600" y="0"/>
            <a:ext cx="80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lark_Figure 1.2.jpg"/>
          <p:cNvPicPr/>
          <p:nvPr/>
        </p:nvPicPr>
        <p:blipFill>
          <a:blip r:embed="rId1"/>
          <a:stretch/>
        </p:blipFill>
        <p:spPr>
          <a:xfrm>
            <a:off x="735120" y="0"/>
            <a:ext cx="767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lark_Figure 1.3.jpg"/>
          <p:cNvPicPr/>
          <p:nvPr/>
        </p:nvPicPr>
        <p:blipFill>
          <a:blip r:embed="rId1"/>
          <a:stretch/>
        </p:blipFill>
        <p:spPr>
          <a:xfrm>
            <a:off x="385920" y="0"/>
            <a:ext cx="837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lark_Figure 1.4.jpg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lark_Figure 1.5.jpg"/>
          <p:cNvPicPr/>
          <p:nvPr/>
        </p:nvPicPr>
        <p:blipFill>
          <a:blip r:embed="rId1"/>
          <a:stretch/>
        </p:blipFill>
        <p:spPr>
          <a:xfrm>
            <a:off x="0" y="1781280"/>
            <a:ext cx="914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7:37:24Z</dcterms:created>
  <dc:creator>Administrator</dc:creator>
  <dc:description/>
  <dc:language>en-US</dc:language>
  <cp:lastModifiedBy>Administrator</cp:lastModifiedBy>
  <dcterms:modified xsi:type="dcterms:W3CDTF">2013-08-19T07:37:51Z</dcterms:modified>
  <cp:revision>1</cp:revision>
  <dc:subject/>
  <dc:title>Slide 1</dc:title>
</cp:coreProperties>
</file>