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8A1-4D3F-461B-B765-845B1265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F5E-EA2C-4B47-AB24-607F1849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CC8-86A2-4B82-A67B-68A40D3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08E-DA93-49A1-8019-7597259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8F7-28A6-4EDA-8ECA-E79BE4E4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AD-56F7-401A-BD95-8A200BF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7D0-FD84-47B9-9EE9-E8AF7189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04D-84C4-4BD3-950E-058CF281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2AD-9A24-423E-8434-7C8ED51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1FE-FDD9-4180-BE23-9B6AB46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464-17F2-416A-A488-BD05905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0F0-A356-43DE-94BD-F859340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B47-9FA7-453A-98F6-F6D9F70BB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5.1.jpg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5.2.jpg"/>
          <p:cNvPicPr/>
          <p:nvPr/>
        </p:nvPicPr>
        <p:blipFill>
          <a:blip r:embed="rId1"/>
          <a:stretch/>
        </p:blipFill>
        <p:spPr>
          <a:xfrm>
            <a:off x="0" y="1049400"/>
            <a:ext cx="91440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5.3.jpg"/>
          <p:cNvPicPr/>
          <p:nvPr/>
        </p:nvPicPr>
        <p:blipFill>
          <a:blip r:embed="rId1"/>
          <a:stretch/>
        </p:blipFill>
        <p:spPr>
          <a:xfrm>
            <a:off x="743040" y="0"/>
            <a:ext cx="76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8:23:00Z</dcterms:created>
  <dc:creator>Administrator</dc:creator>
  <dc:description/>
  <dc:language>en-US</dc:language>
  <cp:lastModifiedBy>Administrator</cp:lastModifiedBy>
  <dcterms:modified xsi:type="dcterms:W3CDTF">2013-08-19T08:23:28Z</dcterms:modified>
  <cp:revision>1</cp:revision>
  <dc:subject/>
  <dc:title>Slide 1</dc:title>
</cp:coreProperties>
</file>