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801-304E-43D5-98FC-ABE30944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F6E-E652-49B7-97D3-D4B504B6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381-A509-4372-89B1-7BA28B75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889-52CC-4AC5-9BFC-D83E5E11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034-55BF-480F-9A01-92122D78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15C-A48B-406A-B326-8B1EB272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EEF-A066-43C7-86CB-CC77EF79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EEE-CF1C-42D4-A45E-02D68BD1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90B-D99B-4C85-B0AA-455F89B5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884-90E3-49FB-8660-EEB8B0F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16B-39D0-4114-87AA-7FD94AE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885-A611-4571-9BD2-5B715AA7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8EC7-ED51-42BC-B175-B59265C37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6.1.jpg"/>
          <p:cNvPicPr/>
          <p:nvPr/>
        </p:nvPicPr>
        <p:blipFill>
          <a:blip r:embed="rId1"/>
          <a:stretch/>
        </p:blipFill>
        <p:spPr>
          <a:xfrm>
            <a:off x="0" y="1984320"/>
            <a:ext cx="9144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6.2.jpg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3:45Z</dcterms:created>
  <dc:creator>Administrator</dc:creator>
  <dc:description/>
  <dc:language>en-US</dc:language>
  <cp:lastModifiedBy>Administrator</cp:lastModifiedBy>
  <dcterms:modified xsi:type="dcterms:W3CDTF">2013-08-19T08:24:01Z</dcterms:modified>
  <cp:revision>1</cp:revision>
  <dc:subject/>
  <dc:title>Slide 1</dc:title>
</cp:coreProperties>
</file>