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05BC-44F2-4AF4-A2B1-8E446313B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5A51-8342-4A90-9E5A-934143B36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AD77-A4F7-46C1-BCC8-14DD09D23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E1D3-225C-4F77-AA2C-89180332E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F669-87A2-4DC4-AFB9-984A17104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6BA8-5105-4ECF-94C7-CC04F6F43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A8EE-AAFC-4DA5-AFDD-1E6EAB63C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047C-20AC-486E-A81C-493B7FC0C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D468-2040-4F95-BD46-6B9CA4898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52B0-A6E6-4841-B6E9-2B844E57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B552-4D94-4947-ADF4-9175C978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8DC6-8C8A-4A94-A2CE-81F962C1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1916BC2-5A63-44D9-AD5A-C8D7C020188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lark_Figure 8.1.jpg"/>
          <p:cNvPicPr/>
          <p:nvPr/>
        </p:nvPicPr>
        <p:blipFill>
          <a:blip r:embed="rId1"/>
          <a:stretch/>
        </p:blipFill>
        <p:spPr>
          <a:xfrm>
            <a:off x="1837800" y="1865520"/>
            <a:ext cx="5467680" cy="31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Clark_Table 8.1.jpg"/>
          <p:cNvPicPr/>
          <p:nvPr/>
        </p:nvPicPr>
        <p:blipFill>
          <a:blip r:embed="rId1"/>
          <a:stretch/>
        </p:blipFill>
        <p:spPr>
          <a:xfrm>
            <a:off x="1837800" y="1871640"/>
            <a:ext cx="546768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Clark_Figure 8.2.jpg"/>
          <p:cNvPicPr/>
          <p:nvPr/>
        </p:nvPicPr>
        <p:blipFill>
          <a:blip r:embed="rId1"/>
          <a:stretch/>
        </p:blipFill>
        <p:spPr>
          <a:xfrm>
            <a:off x="3223440" y="1909440"/>
            <a:ext cx="269712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lark_Figure 8.3.jpg"/>
          <p:cNvPicPr/>
          <p:nvPr/>
        </p:nvPicPr>
        <p:blipFill>
          <a:blip r:embed="rId1"/>
          <a:stretch/>
        </p:blipFill>
        <p:spPr>
          <a:xfrm>
            <a:off x="2462760" y="1265040"/>
            <a:ext cx="4218120" cy="432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Clark_Figure 8.4.jpg"/>
          <p:cNvPicPr/>
          <p:nvPr/>
        </p:nvPicPr>
        <p:blipFill>
          <a:blip r:embed="rId1"/>
          <a:stretch/>
        </p:blipFill>
        <p:spPr>
          <a:xfrm>
            <a:off x="1821240" y="1290960"/>
            <a:ext cx="5501160" cy="42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Clark_Figure 8.5.jpg"/>
          <p:cNvPicPr/>
          <p:nvPr/>
        </p:nvPicPr>
        <p:blipFill>
          <a:blip r:embed="rId1"/>
          <a:stretch/>
        </p:blipFill>
        <p:spPr>
          <a:xfrm>
            <a:off x="2484000" y="1661040"/>
            <a:ext cx="4175280" cy="35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Clark_Figure 8.6.jpg"/>
          <p:cNvPicPr/>
          <p:nvPr/>
        </p:nvPicPr>
        <p:blipFill>
          <a:blip r:embed="rId1"/>
          <a:stretch/>
        </p:blipFill>
        <p:spPr>
          <a:xfrm>
            <a:off x="2523600" y="1639800"/>
            <a:ext cx="4096080" cy="35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Clark_Figure 8.7.jpg"/>
          <p:cNvPicPr/>
          <p:nvPr/>
        </p:nvPicPr>
        <p:blipFill>
          <a:blip r:embed="rId1"/>
          <a:stretch/>
        </p:blipFill>
        <p:spPr>
          <a:xfrm>
            <a:off x="3235320" y="1507320"/>
            <a:ext cx="2672640" cy="38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Clark_Figure 8.8.jpg"/>
          <p:cNvPicPr/>
          <p:nvPr/>
        </p:nvPicPr>
        <p:blipFill>
          <a:blip r:embed="rId1"/>
          <a:stretch/>
        </p:blipFill>
        <p:spPr>
          <a:xfrm>
            <a:off x="1839600" y="1629000"/>
            <a:ext cx="5464800" cy="35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Clark_Figure 8.9.jpg"/>
          <p:cNvPicPr/>
          <p:nvPr/>
        </p:nvPicPr>
        <p:blipFill>
          <a:blip r:embed="rId1"/>
          <a:stretch/>
        </p:blipFill>
        <p:spPr>
          <a:xfrm>
            <a:off x="2511720" y="1728360"/>
            <a:ext cx="4120560" cy="340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  <Words>0</Words>
  <Paragraphs>0</Paragraphs>
  <Company>C &amp; M Digitals (P) Ltd.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1T10:40:07Z</dcterms:created>
  <dc:creator>Administrator</dc:creator>
  <dc:description/>
  <dc:language>en-US</dc:language>
  <cp:lastModifiedBy>Administrator</cp:lastModifiedBy>
  <dcterms:modified xsi:type="dcterms:W3CDTF">2012-03-31T10:41:48Z</dcterms:modified>
  <cp:revision>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0</vt:r8>
  </property>
</Properties>
</file>