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D1A-2581-4556-95CD-6C5A4660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19B-D3CE-4478-A739-D05FA716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364-A643-42BB-ABFF-EBC2F4A1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49D-0690-454E-8CD7-6F832339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A28-5165-4F00-BA74-A8FD376E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1F8-D41B-45D6-A492-35EA81DD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9C3-1235-41D7-BA10-8AC17CD3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AE7-DB46-4906-91E8-941DF1B5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B70-164E-4D15-9DA2-DE88082D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609-70E5-4FD6-BCD8-B5B71214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149-BC5F-4C74-A398-556E6D47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0D0-659B-49F0-BEF0-5EDE412E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C3703F-41B8-4AD5-A81B-892FA827AA4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lark_Figure 1.1.jpg"/>
          <p:cNvPicPr/>
          <p:nvPr/>
        </p:nvPicPr>
        <p:blipFill>
          <a:blip r:embed="rId1"/>
          <a:stretch/>
        </p:blipFill>
        <p:spPr>
          <a:xfrm>
            <a:off x="1905120" y="1650600"/>
            <a:ext cx="5333760" cy="355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1.2.jpg"/>
          <p:cNvPicPr/>
          <p:nvPr/>
        </p:nvPicPr>
        <p:blipFill>
          <a:blip r:embed="rId1"/>
          <a:stretch/>
        </p:blipFill>
        <p:spPr>
          <a:xfrm>
            <a:off x="1778400" y="2037600"/>
            <a:ext cx="5586480" cy="27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1.3.jpg"/>
          <p:cNvPicPr/>
          <p:nvPr/>
        </p:nvPicPr>
        <p:blipFill>
          <a:blip r:embed="rId1"/>
          <a:stretch/>
        </p:blipFill>
        <p:spPr>
          <a:xfrm>
            <a:off x="1787760" y="2174760"/>
            <a:ext cx="55684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1.4.jpg"/>
          <p:cNvPicPr/>
          <p:nvPr/>
        </p:nvPicPr>
        <p:blipFill>
          <a:blip r:embed="rId1"/>
          <a:stretch/>
        </p:blipFill>
        <p:spPr>
          <a:xfrm>
            <a:off x="1816560" y="1574280"/>
            <a:ext cx="5510520" cy="37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1.5.jpg"/>
          <p:cNvPicPr/>
          <p:nvPr/>
        </p:nvPicPr>
        <p:blipFill>
          <a:blip r:embed="rId1"/>
          <a:stretch/>
        </p:blipFill>
        <p:spPr>
          <a:xfrm>
            <a:off x="1822680" y="1568160"/>
            <a:ext cx="549828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1.6.jpg"/>
          <p:cNvPicPr/>
          <p:nvPr/>
        </p:nvPicPr>
        <p:blipFill>
          <a:blip r:embed="rId1"/>
          <a:stretch/>
        </p:blipFill>
        <p:spPr>
          <a:xfrm>
            <a:off x="2505600" y="1943280"/>
            <a:ext cx="413280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  <Words>0</Words>
  <Paragraphs>0</Paragraphs>
  <Company>C &amp; M Digitals (P) Ltd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18:27Z</dcterms:created>
  <dc:creator>Administrator</dc:creator>
  <dc:description/>
  <dc:language>en-US</dc:language>
  <cp:lastModifiedBy>Administrator</cp:lastModifiedBy>
  <dcterms:modified xsi:type="dcterms:W3CDTF">2012-03-31T12:44:55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