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D431-4EF4-455A-8308-BDB59732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C798-DB2F-4D66-A77A-A384E378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1D67-7E04-455C-BA51-FF61B94C0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C6F9-CDFD-4FFD-B995-DA9FC3756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FF82-069B-48E5-81D7-19A6B731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D4CD-E8A1-4B11-9DD7-B1F7BE80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4545-A91D-42A8-B2CC-EE82F6B3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9077-0093-430E-8176-B513F0D4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ADA3-2D8F-4023-853C-6ED5E88F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19AC-DCAC-468B-9F83-30FBB7E8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3253-50D2-425D-8385-CDE4274F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BDA5-00B7-4E80-A51C-70EA3F9B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33C1F4-15E4-4950-9340-74F61095CD8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lark_Figure 6.1.jpg"/>
          <p:cNvPicPr/>
          <p:nvPr/>
        </p:nvPicPr>
        <p:blipFill>
          <a:blip r:embed="rId1"/>
          <a:stretch/>
        </p:blipFill>
        <p:spPr>
          <a:xfrm>
            <a:off x="1816560" y="1242000"/>
            <a:ext cx="551052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lark_Figure 6.2.jpg"/>
          <p:cNvPicPr/>
          <p:nvPr/>
        </p:nvPicPr>
        <p:blipFill>
          <a:blip r:embed="rId1"/>
          <a:stretch/>
        </p:blipFill>
        <p:spPr>
          <a:xfrm>
            <a:off x="2953440" y="2069640"/>
            <a:ext cx="3236760" cy="27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lark_Figure 6.3.jpg"/>
          <p:cNvPicPr/>
          <p:nvPr/>
        </p:nvPicPr>
        <p:blipFill>
          <a:blip r:embed="rId1"/>
          <a:stretch/>
        </p:blipFill>
        <p:spPr>
          <a:xfrm>
            <a:off x="2938320" y="2005560"/>
            <a:ext cx="326700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lark_Figure 6.4.jpg"/>
          <p:cNvPicPr/>
          <p:nvPr/>
        </p:nvPicPr>
        <p:blipFill>
          <a:blip r:embed="rId1"/>
          <a:stretch/>
        </p:blipFill>
        <p:spPr>
          <a:xfrm>
            <a:off x="1800000" y="1656720"/>
            <a:ext cx="5544000" cy="35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lark_Table 6.1.jpg"/>
          <p:cNvPicPr/>
          <p:nvPr/>
        </p:nvPicPr>
        <p:blipFill>
          <a:blip r:embed="rId1"/>
          <a:stretch/>
        </p:blipFill>
        <p:spPr>
          <a:xfrm>
            <a:off x="2522160" y="1705320"/>
            <a:ext cx="4099320" cy="34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  <Words>0</Words>
  <Paragraphs>0</Paragraphs>
  <Company>C &amp; M Digitals (P) Ltd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10:37:02Z</dcterms:created>
  <dc:creator>Administrator</dc:creator>
  <dc:description/>
  <dc:language>en-US</dc:language>
  <cp:lastModifiedBy>Administrator</cp:lastModifiedBy>
  <dcterms:modified xsi:type="dcterms:W3CDTF">2012-03-31T10:38:17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5</vt:r8>
  </property>
</Properties>
</file>