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529-BCA7-48E7-A091-247CB398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8F13-DA99-4E22-A04D-590F2F46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940-B43F-4405-BF91-DC587A1D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BD1-567E-4DB9-A6AF-69CD6AE8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39A5-8F2F-43B0-AD98-F398D78D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E74-7C22-45CA-BCE8-77693B04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A6D4-EF18-41AE-B1C5-21BB1A1E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D847-72E1-459C-8A5E-CBBD75D6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E76-0E69-43C5-B5B1-3BEB8584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9A6-EFC8-43DB-BAA4-F1135EB2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5CC2-453C-4130-966D-4DFB3E7F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759-1F42-4E46-8E84-BFF18DD6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EFAA73-AB51-41A8-9E96-453D4F38973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lark_Figure 3.1.jpg"/>
          <p:cNvPicPr/>
          <p:nvPr/>
        </p:nvPicPr>
        <p:blipFill>
          <a:blip r:embed="rId1"/>
          <a:stretch/>
        </p:blipFill>
        <p:spPr>
          <a:xfrm>
            <a:off x="2505600" y="1621440"/>
            <a:ext cx="4132800" cy="36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lark_Figure 3.10.jpg"/>
          <p:cNvPicPr/>
          <p:nvPr/>
        </p:nvPicPr>
        <p:blipFill>
          <a:blip r:embed="rId1"/>
          <a:stretch/>
        </p:blipFill>
        <p:spPr>
          <a:xfrm>
            <a:off x="2644200" y="2058840"/>
            <a:ext cx="38552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lark_Figure 3.11.jpg"/>
          <p:cNvPicPr/>
          <p:nvPr/>
        </p:nvPicPr>
        <p:blipFill>
          <a:blip r:embed="rId1"/>
          <a:stretch/>
        </p:blipFill>
        <p:spPr>
          <a:xfrm>
            <a:off x="2671560" y="2069640"/>
            <a:ext cx="3800520" cy="27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lark_Figure 3.12.jpg"/>
          <p:cNvPicPr/>
          <p:nvPr/>
        </p:nvPicPr>
        <p:blipFill>
          <a:blip r:embed="rId1"/>
          <a:stretch/>
        </p:blipFill>
        <p:spPr>
          <a:xfrm>
            <a:off x="2666880" y="2031480"/>
            <a:ext cx="3809520" cy="279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lark_Figure 3.13.jpg"/>
          <p:cNvPicPr/>
          <p:nvPr/>
        </p:nvPicPr>
        <p:blipFill>
          <a:blip r:embed="rId1"/>
          <a:stretch/>
        </p:blipFill>
        <p:spPr>
          <a:xfrm>
            <a:off x="1810440" y="1540800"/>
            <a:ext cx="5522760" cy="37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Figure 3.2.jpg"/>
          <p:cNvPicPr/>
          <p:nvPr/>
        </p:nvPicPr>
        <p:blipFill>
          <a:blip r:embed="rId1"/>
          <a:stretch/>
        </p:blipFill>
        <p:spPr>
          <a:xfrm>
            <a:off x="2517480" y="1578960"/>
            <a:ext cx="4108320" cy="37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Figure 3.3.jpg"/>
          <p:cNvPicPr/>
          <p:nvPr/>
        </p:nvPicPr>
        <p:blipFill>
          <a:blip r:embed="rId1"/>
          <a:stretch/>
        </p:blipFill>
        <p:spPr>
          <a:xfrm>
            <a:off x="2522160" y="1594080"/>
            <a:ext cx="4099320" cy="366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Figure 3.4.jpg"/>
          <p:cNvPicPr/>
          <p:nvPr/>
        </p:nvPicPr>
        <p:blipFill>
          <a:blip r:embed="rId1"/>
          <a:stretch/>
        </p:blipFill>
        <p:spPr>
          <a:xfrm>
            <a:off x="1848600" y="1920240"/>
            <a:ext cx="5446440" cy="301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Figure 3.5.jpg"/>
          <p:cNvPicPr/>
          <p:nvPr/>
        </p:nvPicPr>
        <p:blipFill>
          <a:blip r:embed="rId1"/>
          <a:stretch/>
        </p:blipFill>
        <p:spPr>
          <a:xfrm>
            <a:off x="1831680" y="1915560"/>
            <a:ext cx="5479920" cy="30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lark_Figure 3.6.jpg"/>
          <p:cNvPicPr/>
          <p:nvPr/>
        </p:nvPicPr>
        <p:blipFill>
          <a:blip r:embed="rId1"/>
          <a:stretch/>
        </p:blipFill>
        <p:spPr>
          <a:xfrm>
            <a:off x="2505600" y="2257200"/>
            <a:ext cx="4132800" cy="23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lark_Figure 3.7.jpg"/>
          <p:cNvPicPr/>
          <p:nvPr/>
        </p:nvPicPr>
        <p:blipFill>
          <a:blip r:embed="rId1"/>
          <a:stretch/>
        </p:blipFill>
        <p:spPr>
          <a:xfrm>
            <a:off x="2511720" y="1623240"/>
            <a:ext cx="41205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lark_Figure 3.8.jpg"/>
          <p:cNvPicPr/>
          <p:nvPr/>
        </p:nvPicPr>
        <p:blipFill>
          <a:blip r:embed="rId1"/>
          <a:stretch/>
        </p:blipFill>
        <p:spPr>
          <a:xfrm>
            <a:off x="2842200" y="2130480"/>
            <a:ext cx="3459240" cy="25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lark_Figure 3.9.jpg"/>
          <p:cNvPicPr/>
          <p:nvPr/>
        </p:nvPicPr>
        <p:blipFill>
          <a:blip r:embed="rId1"/>
          <a:stretch/>
        </p:blipFill>
        <p:spPr>
          <a:xfrm>
            <a:off x="1720440" y="1909440"/>
            <a:ext cx="57024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0:30:06Z</dcterms:created>
  <dc:creator>Administrator</dc:creator>
  <dc:description/>
  <dc:language>en-US</dc:language>
  <cp:lastModifiedBy>Administrator</cp:lastModifiedBy>
  <dcterms:modified xsi:type="dcterms:W3CDTF">2012-03-31T10:33:05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3</vt:r8>
  </property>
</Properties>
</file>