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58D-13B0-49CC-8C0E-9A6FEDCC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4B7-2443-4CD7-9CC8-A6984E77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64D-9014-4018-BC43-8432EB7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B74-AB76-4152-B481-5CE6EC93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F30-D616-47E9-89DC-2CE8EDA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D0A-1240-494F-A4C4-B12A4E95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B6B-6CDF-40B8-9D38-E8246585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4F1-6040-4DE1-84B5-F019368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54C-82B1-4CA6-AA04-D74EFEE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6C9-6764-4F9A-9847-CC73EEF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07C-BE68-452A-816E-98690B9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5BD-2D68-4674-8750-88E7163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80824F-A37C-42DB-86E5-1ED19E6B59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lark_Figure 2.1.jpg"/>
          <p:cNvPicPr/>
          <p:nvPr/>
        </p:nvPicPr>
        <p:blipFill>
          <a:blip r:embed="rId1"/>
          <a:stretch/>
        </p:blipFill>
        <p:spPr>
          <a:xfrm>
            <a:off x="2865240" y="1749600"/>
            <a:ext cx="3413520" cy="335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28:31Z</dcterms:created>
  <dc:creator>Administrator</dc:creator>
  <dc:description/>
  <dc:language>en-US</dc:language>
  <cp:lastModifiedBy>Administrator</cp:lastModifiedBy>
  <dcterms:modified xsi:type="dcterms:W3CDTF">2012-03-31T10:30:0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