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3AE6-6952-46B3-8775-F284713D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D72D-0FDB-4A3A-AC16-69E67357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9E3-0C89-4EA7-8844-E9E0A890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3D5D-19A0-46DA-9C59-FF49361E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006F-F7B8-4F89-9F0C-BACFFCC4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293-BB24-4A11-BB8D-35C56005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BB0-AE57-4B86-B076-FD20DC8E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900-9DD4-4E39-A0A9-5CEAB961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FE6D-4F8E-4FB6-9D6D-E753FC01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383-C270-4A01-A32E-0A507651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2F35-3108-4068-BEAD-54EDC6B5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9D6-2F88-4A6B-8CC8-09EA1121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EBD435-5768-4C18-853E-AA4AF6348B5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Figure 9.1.jpg"/>
          <p:cNvPicPr/>
          <p:nvPr/>
        </p:nvPicPr>
        <p:blipFill>
          <a:blip r:embed="rId1"/>
          <a:stretch/>
        </p:blipFill>
        <p:spPr>
          <a:xfrm>
            <a:off x="2540520" y="2054520"/>
            <a:ext cx="4062600" cy="274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lark_Figure 9.2.jpg"/>
          <p:cNvPicPr/>
          <p:nvPr/>
        </p:nvPicPr>
        <p:blipFill>
          <a:blip r:embed="rId1"/>
          <a:stretch/>
        </p:blipFill>
        <p:spPr>
          <a:xfrm>
            <a:off x="2456640" y="2225160"/>
            <a:ext cx="4230360" cy="240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Figure 9.3.jpg"/>
          <p:cNvPicPr/>
          <p:nvPr/>
        </p:nvPicPr>
        <p:blipFill>
          <a:blip r:embed="rId1"/>
          <a:stretch/>
        </p:blipFill>
        <p:spPr>
          <a:xfrm>
            <a:off x="2932200" y="2048400"/>
            <a:ext cx="3279240" cy="27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Figure 9.4.jpg"/>
          <p:cNvPicPr/>
          <p:nvPr/>
        </p:nvPicPr>
        <p:blipFill>
          <a:blip r:embed="rId1"/>
          <a:stretch/>
        </p:blipFill>
        <p:spPr>
          <a:xfrm>
            <a:off x="2961000" y="2193120"/>
            <a:ext cx="3221280" cy="24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ark_Figure 9.5.jpg"/>
          <p:cNvPicPr/>
          <p:nvPr/>
        </p:nvPicPr>
        <p:blipFill>
          <a:blip r:embed="rId1"/>
          <a:stretch/>
        </p:blipFill>
        <p:spPr>
          <a:xfrm>
            <a:off x="2490120" y="1976760"/>
            <a:ext cx="4163040" cy="290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0:41:51Z</dcterms:created>
  <dc:creator>Administrator</dc:creator>
  <dc:description/>
  <dc:language>en-US</dc:language>
  <cp:lastModifiedBy>Administrator</cp:lastModifiedBy>
  <dcterms:modified xsi:type="dcterms:W3CDTF">2012-03-31T10:43:00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5</vt:r8>
  </property>
</Properties>
</file>