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875-40E0-412D-A0A2-290B8CC0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965-56CC-4831-B89F-5198922F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9BBC-894E-4DAB-957E-E767BF91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145-B8F0-4687-8823-EB5AB3C0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27C-E932-4677-9192-0B7AE9C6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3542-FA9F-4343-9FA9-C4549FEC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308-BB81-42B1-B511-91C98019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3DA-21DB-4E51-8312-64C3615C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34CD-886E-4861-88E3-4549B966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1EC1-13F9-4197-8C3A-6B620E71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652-7661-4B52-ABCE-4A6AB4C1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DEB-73FF-43F0-ACB3-7ED05051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E376-A15E-4BF8-A74E-8238D39D7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uer_2e_Figure 7.1.1.jpg"/>
          <p:cNvPicPr/>
          <p:nvPr/>
        </p:nvPicPr>
        <p:blipFill>
          <a:blip r:embed="rId1"/>
          <a:stretch/>
        </p:blipFill>
        <p:spPr>
          <a:xfrm>
            <a:off x="2403360" y="0"/>
            <a:ext cx="433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uer_2e_Figure 7.1.2.jpg"/>
          <p:cNvPicPr/>
          <p:nvPr/>
        </p:nvPicPr>
        <p:blipFill>
          <a:blip r:embed="rId1"/>
          <a:stretch/>
        </p:blipFill>
        <p:spPr>
          <a:xfrm>
            <a:off x="1959120" y="0"/>
            <a:ext cx="522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uer_2e_Figure 7.1.3.jpg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uer_2e_Figure 7.3a.jpg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euer_2e_Figure 7.3b.jpg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Heuer_2e_Figure 7.3c.jpg"/>
          <p:cNvPicPr/>
          <p:nvPr/>
        </p:nvPicPr>
        <p:blipFill>
          <a:blip r:embed="rId1"/>
          <a:stretch/>
        </p:blipFill>
        <p:spPr>
          <a:xfrm>
            <a:off x="0" y="184320"/>
            <a:ext cx="9144000" cy="64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Heuer_2e_Figure 7.4.jpg"/>
          <p:cNvPicPr/>
          <p:nvPr/>
        </p:nvPicPr>
        <p:blipFill>
          <a:blip r:embed="rId1"/>
          <a:stretch/>
        </p:blipFill>
        <p:spPr>
          <a:xfrm>
            <a:off x="2454120" y="0"/>
            <a:ext cx="423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6:17:02Z</dcterms:created>
  <dc:creator>conversion</dc:creator>
  <dc:description/>
  <dc:language>en-US</dc:language>
  <cp:lastModifiedBy>conversion</cp:lastModifiedBy>
  <dcterms:modified xsi:type="dcterms:W3CDTF">2014-04-04T06:17:20Z</dcterms:modified>
  <cp:revision>1</cp:revision>
  <dc:subject/>
  <dc:title>Slide 1</dc:title>
</cp:coreProperties>
</file>