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AC2-1C09-44D5-A6C1-16EF8318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34D-A430-4075-881E-60B28712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E64-87C4-489C-8DFB-23517BA7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734-5ABA-47B3-B5F1-07D6C49E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6AA-BDF4-4D74-9EAC-E5BE50DA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31F-3C7F-4555-881C-FE2D7AE2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CA7-9FA9-4F64-A105-46724815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24A-6FED-499D-BD88-1110FC1B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6EB-2B33-41B4-B045-1B3E89AB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49F-B368-462A-AB5D-3F8067A8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88F-76E6-440F-8596-31433FA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848-EBC2-432D-B754-023EAFE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31B-7A7E-4CE8-9CE6-C6BB35C53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2.0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2.2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2:32Z</dcterms:created>
  <dc:creator>conversion</dc:creator>
  <dc:description/>
  <dc:language>en-US</dc:language>
  <cp:lastModifiedBy>conversion</cp:lastModifiedBy>
  <dcterms:modified xsi:type="dcterms:W3CDTF">2014-04-04T06:13:34Z</dcterms:modified>
  <cp:revision>1</cp:revision>
  <dc:subject/>
  <dc:title>Slide 1</dc:title>
</cp:coreProperties>
</file>