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56D-F8D6-433C-B89C-B6B68601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12A7-6F61-41CC-B2D3-7E96D8D1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BAB-A3FF-4A20-9DFA-1BD3BBE8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C2C-5852-48A8-98FB-C3467FB2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421-CDA4-4F92-83A3-5411D9E4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552-1227-4C7B-B066-DF12D8ED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5C4-6971-4C29-A2F3-660111FE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370-60A0-479A-9185-ECA04E16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C2A6-E51E-4353-9070-B6DFD48D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C0B-E864-4950-ADCF-5181EDD3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DF1-3217-401C-A749-0D9691A8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1EA-5D7A-434D-90B9-D4FB984A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59C6-D58E-4740-98A0-3250BCD08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Heuer_2e_Figure 2.0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Heuer_2e_Figure 2.2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6:12:32Z</dcterms:created>
  <dc:creator>conversion</dc:creator>
  <dc:description/>
  <dc:language>en-US</dc:language>
  <cp:lastModifiedBy>conversion</cp:lastModifiedBy>
  <dcterms:modified xsi:type="dcterms:W3CDTF">2014-04-04T06:13:34Z</dcterms:modified>
  <cp:revision>1</cp:revision>
  <dc:subject/>
  <dc:title>Slide 1</dc:title>
</cp:coreProperties>
</file>