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52C2-36FE-43CE-99FD-1E93261D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8AEE-844A-4D1D-BAAC-3DFED78C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F853-F181-476D-BDBB-646EE496E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D83E-8937-4509-B2E4-5CAA7A4A1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1F56-F988-4B93-AC41-5D38CACF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0516-5E0F-47BC-93F4-DDD75D90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87AA-A717-4AF6-AFC6-0618849B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D83C-F333-4496-A1B7-06AF1DF1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32CA-6F42-4176-A0B6-271BE91A6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948F-1FFA-4219-BDBA-8114B0E6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E10D-8EFD-4879-B525-CCD22B51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F297-3D35-40FA-94F6-45D6DD35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411A-D9C8-4540-B3A7-A55B16978F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euer_2e_Figure 3.0.jpg"/>
          <p:cNvPicPr/>
          <p:nvPr/>
        </p:nvPicPr>
        <p:blipFill>
          <a:blip r:embed="rId1"/>
          <a:stretch/>
        </p:blipFill>
        <p:spPr>
          <a:xfrm>
            <a:off x="2616120" y="0"/>
            <a:ext cx="391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euer_2e_Figure 3.2.jpg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06:13:46Z</dcterms:created>
  <dc:creator>conversion</dc:creator>
  <dc:description/>
  <dc:language>en-US</dc:language>
  <cp:lastModifiedBy>conversion</cp:lastModifiedBy>
  <dcterms:modified xsi:type="dcterms:W3CDTF">2014-04-04T06:14:06Z</dcterms:modified>
  <cp:revision>1</cp:revision>
  <dc:subject/>
  <dc:title>Slide 1</dc:title>
</cp:coreProperties>
</file>