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B65-A3F4-4CB6-8CB6-ADE11650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61E-D4DB-4291-9E48-B6F721FB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65F-FE19-4B48-B56E-40AAB1AD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DF7C-C2DB-4E14-96BB-AC946561A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FAA-45F9-495B-919A-F9C7419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40B-2A18-4F53-B9D0-D1041F7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3E4-CCA7-4AC6-8E21-10F78922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CDD-98CF-4872-B936-8B856934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E58-024B-4A4B-A21C-C52925D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6750-EED9-4EC2-95EF-4932B7BA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E9D-BF46-499A-A1BA-071D969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48F-3D0A-44E2-8731-13AB10BC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9244-E9A7-4E0B-99A6-9A7206E52A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5.1.jpg"/>
          <p:cNvPicPr/>
          <p:nvPr/>
        </p:nvPicPr>
        <p:blipFill>
          <a:blip r:embed="rId1"/>
          <a:stretch/>
        </p:blipFill>
        <p:spPr>
          <a:xfrm>
            <a:off x="0" y="263520"/>
            <a:ext cx="9144000" cy="63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5.4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5.5.jpg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5.6.jpg"/>
          <p:cNvPicPr/>
          <p:nvPr/>
        </p:nvPicPr>
        <p:blipFill>
          <a:blip r:embed="rId1"/>
          <a:stretch/>
        </p:blipFill>
        <p:spPr>
          <a:xfrm>
            <a:off x="0" y="50328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5.7a.jpg"/>
          <p:cNvPicPr/>
          <p:nvPr/>
        </p:nvPicPr>
        <p:blipFill>
          <a:blip r:embed="rId1"/>
          <a:stretch/>
        </p:blipFill>
        <p:spPr>
          <a:xfrm>
            <a:off x="0" y="1001880"/>
            <a:ext cx="9144000" cy="48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5.7b.jpg"/>
          <p:cNvPicPr/>
          <p:nvPr/>
        </p:nvPicPr>
        <p:blipFill>
          <a:blip r:embed="rId1"/>
          <a:stretch/>
        </p:blipFill>
        <p:spPr>
          <a:xfrm>
            <a:off x="0" y="608040"/>
            <a:ext cx="91440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5.7c.jpg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5.7d.jpg"/>
          <p:cNvPicPr/>
          <p:nvPr/>
        </p:nvPicPr>
        <p:blipFill>
          <a:blip r:embed="rId1"/>
          <a:stretch/>
        </p:blipFill>
        <p:spPr>
          <a:xfrm>
            <a:off x="1039680" y="0"/>
            <a:ext cx="706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6:24Z</dcterms:created>
  <dc:creator>conversion</dc:creator>
  <dc:description/>
  <dc:language>en-US</dc:language>
  <cp:lastModifiedBy>conversion</cp:lastModifiedBy>
  <dcterms:modified xsi:type="dcterms:W3CDTF">2014-04-04T06:16:39Z</dcterms:modified>
  <cp:revision>1</cp:revision>
  <dc:subject/>
  <dc:title>Slide 1</dc:title>
</cp:coreProperties>
</file>