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C09A-BC68-4F31-885F-63BD0481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4FD-A486-455B-8BB6-578D26F1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512-B433-4247-8646-39FEE6CE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190-1D01-4CFF-94DC-7D02B41F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0F2-43BE-4CD8-BD3F-85C95A5E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7A4-CDA5-4549-A8E5-229502AA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3A9-C5E9-4E28-8574-AE916048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7504-CFCA-48A9-99AF-6CE8A80F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3B89-221F-446D-A918-97F3E176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ABA-371C-48EE-8EDC-D90E4EA4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8F1-1CB7-4C7A-99E1-514D2C7B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E89-4FBA-4453-9059-D4786E92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4C33-4042-4186-97A0-F44AEC839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11.2.jpg"/>
          <p:cNvPicPr/>
          <p:nvPr/>
        </p:nvPicPr>
        <p:blipFill>
          <a:blip r:embed="rId1"/>
          <a:stretch/>
        </p:blipFill>
        <p:spPr>
          <a:xfrm>
            <a:off x="0" y="550800"/>
            <a:ext cx="91440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11.3.jpg"/>
          <p:cNvPicPr/>
          <p:nvPr/>
        </p:nvPicPr>
        <p:blipFill>
          <a:blip r:embed="rId1"/>
          <a:stretch/>
        </p:blipFill>
        <p:spPr>
          <a:xfrm>
            <a:off x="0" y="363600"/>
            <a:ext cx="91440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11.4.jpg"/>
          <p:cNvPicPr/>
          <p:nvPr/>
        </p:nvPicPr>
        <p:blipFill>
          <a:blip r:embed="rId1"/>
          <a:stretch/>
        </p:blipFill>
        <p:spPr>
          <a:xfrm>
            <a:off x="833400" y="0"/>
            <a:ext cx="747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11.5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11.6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11.7.jpg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23:43Z</dcterms:created>
  <dc:creator>conversion</dc:creator>
  <dc:description/>
  <dc:language>en-US</dc:language>
  <cp:lastModifiedBy>conversion</cp:lastModifiedBy>
  <dcterms:modified xsi:type="dcterms:W3CDTF">2014-04-04T06:25:16Z</dcterms:modified>
  <cp:revision>1</cp:revision>
  <dc:subject/>
  <dc:title>Slide 1</dc:title>
</cp:coreProperties>
</file>