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C50-AD19-4E26-959C-97C8D282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6FA-C20F-4E58-A4A8-584A5BC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10E-11AE-4884-AC97-8912EA3F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03E-D13B-42BE-9074-00CE133C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509-8A45-4FAD-B33C-52B3F32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C46-736A-42F0-BFF1-4612A21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E75-4029-4A7C-AA08-6F324B1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767-78B4-4738-A0E3-992A51D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A51-DC07-43BB-905F-52F31CD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9C7-6924-4AAA-8050-97C2AA8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72B-7976-43EF-BFB0-903831D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663-17BE-409D-8749-4B6524E7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B3F-768D-44EF-A905-39CADF7D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6.1.1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uer_2e_Figure 6.3a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uer_2e_Figure 6.3b.jpg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6.1.2.jp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6.1.3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6.1.4a.jpg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6.1.4b.jpg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6.1.4c.jpg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6.2a.jpg"/>
          <p:cNvPicPr/>
          <p:nvPr/>
        </p:nvPicPr>
        <p:blipFill>
          <a:blip r:embed="rId1"/>
          <a:stretch/>
        </p:blipFill>
        <p:spPr>
          <a:xfrm>
            <a:off x="93600" y="0"/>
            <a:ext cx="895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6.2b.jpg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uer_2e_Figure 6.2c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1:23Z</dcterms:created>
  <dc:creator>conversion</dc:creator>
  <dc:description/>
  <dc:language>en-US</dc:language>
  <cp:lastModifiedBy>conversion</cp:lastModifiedBy>
  <dcterms:modified xsi:type="dcterms:W3CDTF">2014-04-04T06:22:02Z</dcterms:modified>
  <cp:revision>1</cp:revision>
  <dc:subject/>
  <dc:title>Slide 1</dc:title>
</cp:coreProperties>
</file>