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884-FF3B-424D-BEB5-7504774A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21D-08B3-40DC-BD5C-761E4372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A7B-8876-497D-B340-37D78438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1A2-F8B2-473F-943F-802ADC94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309-E7D8-4424-BA72-9CFBD88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9C1-FC14-438B-8F0D-BB2E7FD9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EF2-F886-4F52-960D-C743841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BCF-2226-4B7A-B874-5626A4A4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5A2-1BDE-48DE-9EA8-2F001B7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5E2-AA7A-47F6-9E1A-33BB87E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C24-7317-43B8-8584-1315B93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26B-A8E6-4C16-B1ED-7959614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216-7CF1-4D3A-A349-8AAF9CE76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11.2.jpg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11.3.jpg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11.4.jpg"/>
          <p:cNvPicPr/>
          <p:nvPr/>
        </p:nvPicPr>
        <p:blipFill>
          <a:blip r:embed="rId1"/>
          <a:stretch/>
        </p:blipFill>
        <p:spPr>
          <a:xfrm>
            <a:off x="833400" y="0"/>
            <a:ext cx="74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11.5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11.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11.7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3:43Z</dcterms:created>
  <dc:creator>conversion</dc:creator>
  <dc:description/>
  <dc:language>en-US</dc:language>
  <cp:lastModifiedBy>conversion</cp:lastModifiedBy>
  <dcterms:modified xsi:type="dcterms:W3CDTF">2014-04-04T06:25:16Z</dcterms:modified>
  <cp:revision>1</cp:revision>
  <dc:subject/>
  <dc:title>Slide 1</dc:title>
</cp:coreProperties>
</file>