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CA8-1D0C-407C-9101-17B03E2C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D81-4C6A-4978-895B-75E7E3A6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C53-E510-4A29-B675-D986E91B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014-D663-4590-AE6A-0BFBBF2A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D39-D64C-4186-A3B0-55C1538E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D5E-446F-4CD4-AC09-E04BF95A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40C-EFBE-44D8-8BFC-2DAF010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9D7-5CB1-41D4-AA82-CEDB313C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FAC-55F8-4A3A-9E11-855FB6F7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35C-7DCD-4459-B2A6-23A87D5C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334-6A8F-4F48-B262-B338F51A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0EB-5B66-48EC-98A5-313F7A98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D8C3-6E75-4DEC-9685-32EB800A9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3.0.jpg"/>
          <p:cNvPicPr/>
          <p:nvPr/>
        </p:nvPicPr>
        <p:blipFill>
          <a:blip r:embed="rId1"/>
          <a:stretch/>
        </p:blipFill>
        <p:spPr>
          <a:xfrm>
            <a:off x="2616120" y="0"/>
            <a:ext cx="391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3.2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13:46Z</dcterms:created>
  <dc:creator>conversion</dc:creator>
  <dc:description/>
  <dc:language>en-US</dc:language>
  <cp:lastModifiedBy>conversion</cp:lastModifiedBy>
  <dcterms:modified xsi:type="dcterms:W3CDTF">2014-04-04T06:14:06Z</dcterms:modified>
  <cp:revision>1</cp:revision>
  <dc:subject/>
  <dc:title>Slide 1</dc:title>
</cp:coreProperties>
</file>