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CC2-1E36-4550-AD3C-9EFCF628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8AA-A910-4CA9-A2DF-0A1609D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2F1-98F3-4AA4-BFB3-F9499F6D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6C6-7739-4B51-8D08-7E0DD53D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15E-A633-4106-B6A9-B7E24C25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C0B-75C1-412F-927B-75B73BA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F03-848A-40F1-8E0F-ED4E4FF3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D0D-CF6D-4260-85B2-EB83DB6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317-6B19-43EA-83A4-1AC64337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CC-C645-498D-BD00-B27ADFF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F58-600C-4789-A92F-FA25AAC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099-7066-4F36-9393-9D8B7A5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0367-69E4-4C8A-AE77-E56EECB4E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8.1.jpg"/>
          <p:cNvPicPr/>
          <p:nvPr/>
        </p:nvPicPr>
        <p:blipFill>
          <a:blip r:embed="rId1"/>
          <a:stretch/>
        </p:blipFill>
        <p:spPr>
          <a:xfrm>
            <a:off x="2203560" y="0"/>
            <a:ext cx="47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8.4.jpg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8.5.jpg"/>
          <p:cNvPicPr/>
          <p:nvPr/>
        </p:nvPicPr>
        <p:blipFill>
          <a:blip r:embed="rId1"/>
          <a:stretch/>
        </p:blipFill>
        <p:spPr>
          <a:xfrm>
            <a:off x="485640" y="0"/>
            <a:ext cx="81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2:22Z</dcterms:created>
  <dc:creator>conversion</dc:creator>
  <dc:description/>
  <dc:language>en-US</dc:language>
  <cp:lastModifiedBy>conversion</cp:lastModifiedBy>
  <dcterms:modified xsi:type="dcterms:W3CDTF">2014-04-04T06:22:35Z</dcterms:modified>
  <cp:revision>1</cp:revision>
  <dc:subject/>
  <dc:title>Slide 1</dc:title>
</cp:coreProperties>
</file>