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7043-E6C5-4EE0-90AC-420234722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1201-63F3-43DF-AC56-4439BD48A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3B39-AEB0-474C-86CF-A1D9BD047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140E-F3C5-40E5-B7C6-3CFAEB026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6E83-8BE2-461A-BB05-B0A3F4D32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1A04-72D5-43F7-B1BD-44CB73E7C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8AF6-A16A-4256-A489-A47F1D8DF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F2AA-0B1B-4EA9-B758-7EE05BC3C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E8FB-1D7A-40FE-BD35-C8F7CC1CA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F368-36CB-46F7-A03C-4A9567B4F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384F-BA59-47B5-89C0-DD951AF04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A69F-F6A0-4FDA-BBF0-DA6A6F8E4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68AC1-47C0-42C3-8435-0821F9F9E7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Heuer_2e_Figure 8.1.jpg"/>
          <p:cNvPicPr/>
          <p:nvPr/>
        </p:nvPicPr>
        <p:blipFill>
          <a:blip r:embed="rId1"/>
          <a:stretch/>
        </p:blipFill>
        <p:spPr>
          <a:xfrm>
            <a:off x="2203560" y="0"/>
            <a:ext cx="4735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Heuer_2e_Figure 8.4.jpg"/>
          <p:cNvPicPr/>
          <p:nvPr/>
        </p:nvPicPr>
        <p:blipFill>
          <a:blip r:embed="rId1"/>
          <a:stretch/>
        </p:blipFill>
        <p:spPr>
          <a:xfrm>
            <a:off x="826920" y="0"/>
            <a:ext cx="7488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Heuer_2e_Figure 8.5.jpg"/>
          <p:cNvPicPr/>
          <p:nvPr/>
        </p:nvPicPr>
        <p:blipFill>
          <a:blip r:embed="rId1"/>
          <a:stretch/>
        </p:blipFill>
        <p:spPr>
          <a:xfrm>
            <a:off x="485640" y="0"/>
            <a:ext cx="8170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04T06:22:22Z</dcterms:created>
  <dc:creator>conversion</dc:creator>
  <dc:description/>
  <dc:language>en-US</dc:language>
  <cp:lastModifiedBy>conversion</cp:lastModifiedBy>
  <dcterms:modified xsi:type="dcterms:W3CDTF">2014-04-04T06:22:35Z</dcterms:modified>
  <cp:revision>1</cp:revision>
  <dc:subject/>
  <dc:title>Slide 1</dc:title>
</cp:coreProperties>
</file>