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32A-FBC2-44C3-B0BC-27FAB8CC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5FB-B4FC-4AAA-92AD-38A11AAF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87CD-67B1-4A3A-84C5-64771C1E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C53-AB60-450E-9D4A-42A7AB16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074-B86F-4CE9-AB45-395E5DE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A0E-69B6-454D-8F91-123C88C6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60E5-3521-4882-B3D3-A9876061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67F-D73B-4CB6-ADA1-92677C2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B68-B9AB-4DFA-9BC5-79261400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DB35-581E-454A-A824-A5288C23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CB2C-F244-4F6D-A280-27EAF1CE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CB23-59A5-4C16-BDA0-10248B87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FE8F-2219-4649-9DE0-7562931D9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6.1.1.jpg"/>
          <p:cNvPicPr/>
          <p:nvPr/>
        </p:nvPicPr>
        <p:blipFill>
          <a:blip r:embed="rId1"/>
          <a:stretch/>
        </p:blipFill>
        <p:spPr>
          <a:xfrm>
            <a:off x="0" y="171360"/>
            <a:ext cx="91440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uer_2e_Figure 6.3a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uer_2e_Figure 6.3b.jpg"/>
          <p:cNvPicPr/>
          <p:nvPr/>
        </p:nvPicPr>
        <p:blipFill>
          <a:blip r:embed="rId1"/>
          <a:stretch/>
        </p:blipFill>
        <p:spPr>
          <a:xfrm>
            <a:off x="61920" y="0"/>
            <a:ext cx="902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6.1.2.jpg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6.1.3.jpg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6.1.4a.jpg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6.1.4b.jpg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6.1.4c.jpg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9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6.2a.jpg"/>
          <p:cNvPicPr/>
          <p:nvPr/>
        </p:nvPicPr>
        <p:blipFill>
          <a:blip r:embed="rId1"/>
          <a:stretch/>
        </p:blipFill>
        <p:spPr>
          <a:xfrm>
            <a:off x="93600" y="0"/>
            <a:ext cx="895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uer_2e_Figure 6.2b.jpg"/>
          <p:cNvPicPr/>
          <p:nvPr/>
        </p:nvPicPr>
        <p:blipFill>
          <a:blip r:embed="rId1"/>
          <a:stretch/>
        </p:blipFill>
        <p:spPr>
          <a:xfrm>
            <a:off x="209556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uer_2e_Figure 6.2c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21:23Z</dcterms:created>
  <dc:creator>conversion</dc:creator>
  <dc:description/>
  <dc:language>en-US</dc:language>
  <cp:lastModifiedBy>conversion</cp:lastModifiedBy>
  <dcterms:modified xsi:type="dcterms:W3CDTF">2014-04-04T06:22:02Z</dcterms:modified>
  <cp:revision>1</cp:revision>
  <dc:subject/>
  <dc:title>Slide 1</dc:title>
</cp:coreProperties>
</file>