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07B-7E5B-47C0-ABA3-B2D13D3A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7E4-31B3-47C9-9B6B-5AD62C3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806-CFE2-4831-810A-E1C1817F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812-45CB-4D66-8457-932578B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C9E-BFF6-47B7-9A0A-54B4488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4A5-1B17-433C-9EE5-614ACBE0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4B1-DADA-41EC-AB04-8E04F67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FA4-D567-4F01-A657-29364C6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EF9-6DC9-402E-922F-55DE223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713-2098-4C62-BBE8-808CD2B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4E6-454B-4A46-9939-2F050A0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4F6-B6AB-4621-938F-741AF02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517-EB87-4F7E-8EF1-8AC21779C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7.1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7.1(Continued)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7.2.jpg"/>
          <p:cNvPicPr/>
          <p:nvPr/>
        </p:nvPicPr>
        <p:blipFill>
          <a:blip r:embed="rId1"/>
          <a:stretch/>
        </p:blipFill>
        <p:spPr>
          <a:xfrm>
            <a:off x="0" y="2252520"/>
            <a:ext cx="9144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7.3.jpg"/>
          <p:cNvPicPr/>
          <p:nvPr/>
        </p:nvPicPr>
        <p:blipFill>
          <a:blip r:embed="rId1"/>
          <a:stretch/>
        </p:blipFill>
        <p:spPr>
          <a:xfrm>
            <a:off x="187632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5:25Z</dcterms:created>
  <dc:creator>conversion</dc:creator>
  <dc:description/>
  <dc:language>en-US</dc:language>
  <cp:lastModifiedBy>conversion</cp:lastModifiedBy>
  <dcterms:modified xsi:type="dcterms:W3CDTF">2014-05-22T10:15:53Z</dcterms:modified>
  <cp:revision>1</cp:revision>
  <dc:subject/>
  <dc:title>Slide 1</dc:title>
</cp:coreProperties>
</file>