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48D-8A9F-4188-9F96-21DA27DE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E97-86F2-4753-B83E-282EF2AF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DF2-B427-4DEE-8053-E15D2CAB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9E0-A760-4C74-AC77-455AB0AF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BAC-89CF-496D-AA05-07B0A66A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2C5-2AD0-41EF-8BAE-CE5454D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6C8-7AEC-4B13-ABFE-C9D47439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5A5-26F1-44F0-9568-5B91106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338-3A40-4B74-8254-049C9962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210-26DF-47CA-88C6-103060E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6EE-AD4C-4A62-859A-D1B015B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FED-2DB1-4D19-AA51-B81DAAD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2D4-8447-4001-87B0-BC816A2C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9.1.jpg"/>
          <p:cNvPicPr/>
          <p:nvPr/>
        </p:nvPicPr>
        <p:blipFill>
          <a:blip r:embed="rId1"/>
          <a:stretch/>
        </p:blipFill>
        <p:spPr>
          <a:xfrm>
            <a:off x="1309680" y="0"/>
            <a:ext cx="652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9.2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9.3.jpg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9.4.jpg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7:24Z</dcterms:created>
  <dc:creator>conversion</dc:creator>
  <dc:description/>
  <dc:language>en-US</dc:language>
  <cp:lastModifiedBy>conversion</cp:lastModifiedBy>
  <dcterms:modified xsi:type="dcterms:W3CDTF">2014-05-22T10:17:59Z</dcterms:modified>
  <cp:revision>1</cp:revision>
  <dc:subject/>
  <dc:title>Slide 1</dc:title>
</cp:coreProperties>
</file>