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7B60-DCAD-4D1D-84E8-A53FB5CE2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371F-0A07-4C71-AF7B-CDAB64F8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6288-14C9-415A-9DF8-680ED7510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639C-C98E-4B99-9D5C-84E9D5893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8DBD-C159-488E-80BB-88BBC68D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34F2-815D-4871-9350-7AD9F18A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5151-7598-4B18-9EEE-717C3EC5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5441-0117-47EB-91EC-64F30698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18AA-32D0-49A4-AF65-DC1CF30D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0DB4-0575-43FE-B697-96032771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3703-1D4B-4731-99B5-7B57980E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72E4-A7E0-4083-8155-FE6AFA12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27B0-826B-4C17-A836-46CC3E7596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Lowenthal_6e_Box 10.1.jpg"/>
          <p:cNvPicPr/>
          <p:nvPr/>
        </p:nvPicPr>
        <p:blipFill>
          <a:blip r:embed="rId1"/>
          <a:stretch/>
        </p:blipFill>
        <p:spPr>
          <a:xfrm>
            <a:off x="0" y="912960"/>
            <a:ext cx="9144000" cy="50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Lowenthal_6e_Box 10.2.jpg"/>
          <p:cNvPicPr/>
          <p:nvPr/>
        </p:nvPicPr>
        <p:blipFill>
          <a:blip r:embed="rId1"/>
          <a:stretch/>
        </p:blipFill>
        <p:spPr>
          <a:xfrm>
            <a:off x="0" y="1824120"/>
            <a:ext cx="914400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Lowenthal_6e_Box 10.3.jpg"/>
          <p:cNvPicPr/>
          <p:nvPr/>
        </p:nvPicPr>
        <p:blipFill>
          <a:blip r:embed="rId1"/>
          <a:stretch/>
        </p:blipFill>
        <p:spPr>
          <a:xfrm>
            <a:off x="0" y="1701720"/>
            <a:ext cx="914400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Lowenthal_6e_Table 10.1.jpg"/>
          <p:cNvPicPr/>
          <p:nvPr/>
        </p:nvPicPr>
        <p:blipFill>
          <a:blip r:embed="rId1"/>
          <a:stretch/>
        </p:blipFill>
        <p:spPr>
          <a:xfrm>
            <a:off x="0" y="493560"/>
            <a:ext cx="9144000" cy="587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0:18:22Z</dcterms:created>
  <dc:creator>conversion</dc:creator>
  <dc:description/>
  <dc:language>en-US</dc:language>
  <cp:lastModifiedBy>conversion</cp:lastModifiedBy>
  <dcterms:modified xsi:type="dcterms:W3CDTF">2014-05-22T10:19:05Z</dcterms:modified>
  <cp:revision>1</cp:revision>
  <dc:subject/>
  <dc:title>Slide 1</dc:title>
</cp:coreProperties>
</file>