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AE79-5433-49EB-B541-1D9760A0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AC7-E72A-4BB5-9897-A0923BE6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DBC-80DF-415C-86D5-D3CF9A63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650-DC1B-43D6-82DB-0290CFA7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65B-523F-42BC-B7ED-8BF32DD0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86D6-52E7-41E5-9389-1CF34BA5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21E-CF99-4D76-A4AE-409C7DC8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D36-C2B8-4872-9875-96946DA8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6D5-824F-444E-9486-366628AE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A30-9903-4EDA-A435-9DBCA34D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A0D8-DC99-42F1-9C90-A4B0B2B8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859-5D73-4323-A5FA-495977D1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4762-8879-436A-9C76-1B884105D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wenthal_6e_Box 8.1.jpg"/>
          <p:cNvPicPr/>
          <p:nvPr/>
        </p:nvPicPr>
        <p:blipFill>
          <a:blip r:embed="rId1"/>
          <a:stretch/>
        </p:blipFill>
        <p:spPr>
          <a:xfrm>
            <a:off x="449280" y="0"/>
            <a:ext cx="824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owenthal_6e_Box 8.2(Continued).jpg"/>
          <p:cNvPicPr/>
          <p:nvPr/>
        </p:nvPicPr>
        <p:blipFill>
          <a:blip r:embed="rId1"/>
          <a:stretch/>
        </p:blipFill>
        <p:spPr>
          <a:xfrm>
            <a:off x="0" y="947880"/>
            <a:ext cx="9144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owenthal_6e_Box 8.2.jpg"/>
          <p:cNvPicPr/>
          <p:nvPr/>
        </p:nvPicPr>
        <p:blipFill>
          <a:blip r:embed="rId1"/>
          <a:stretch/>
        </p:blipFill>
        <p:spPr>
          <a:xfrm>
            <a:off x="0" y="1681200"/>
            <a:ext cx="91440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owenthal_6e_Figure 8.1.jpg"/>
          <p:cNvPicPr/>
          <p:nvPr/>
        </p:nvPicPr>
        <p:blipFill>
          <a:blip r:embed="rId1"/>
          <a:stretch/>
        </p:blipFill>
        <p:spPr>
          <a:xfrm>
            <a:off x="0" y="754200"/>
            <a:ext cx="914400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0:16:29Z</dcterms:created>
  <dc:creator>conversion</dc:creator>
  <dc:description/>
  <dc:language>en-US</dc:language>
  <cp:lastModifiedBy>conversion</cp:lastModifiedBy>
  <dcterms:modified xsi:type="dcterms:W3CDTF">2014-05-22T10:17:01Z</dcterms:modified>
  <cp:revision>1</cp:revision>
  <dc:subject/>
  <dc:title>Slide 1</dc:title>
</cp:coreProperties>
</file>