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8E7-4D8B-4E11-ADF5-D6CB9A46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B10-5FE0-45FD-AFBA-370F44A1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DDD-BB19-449D-A289-78BD1A1F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885-8A27-46A1-9126-A8735BE8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B3D-955E-465C-AFDE-16AD5589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D4A-8329-41CB-B6DB-17159F3F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8D9-22A9-4CCA-A431-D66EECCB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26B-083A-4EDD-83D8-8AB9AABC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E7E-DEFE-46C0-B9CE-883E0FAE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957-6FCD-465A-B5DE-50B74099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2E6-0899-42F0-8354-4909676E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51E-4189-4D90-B1D0-BE272526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35A3-1F8E-4046-9412-4D3707F9D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Lowenthal_6e_Box 1.1.jpg"/>
          <p:cNvPicPr/>
          <p:nvPr/>
        </p:nvPicPr>
        <p:blipFill>
          <a:blip r:embed="rId1"/>
          <a:stretch/>
        </p:blipFill>
        <p:spPr>
          <a:xfrm>
            <a:off x="1203480" y="0"/>
            <a:ext cx="67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Lowenthal_6e_Box 1.2.jpg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Lowenthal_6e_Box 1.3.jpg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Lowenthal_6e_Box 1.4.jpg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0:05:59Z</dcterms:created>
  <dc:creator>conversion</dc:creator>
  <dc:description/>
  <dc:language>en-US</dc:language>
  <cp:lastModifiedBy>conversion</cp:lastModifiedBy>
  <dcterms:modified xsi:type="dcterms:W3CDTF">2014-05-22T10:07:23Z</dcterms:modified>
  <cp:revision>1</cp:revision>
  <dc:subject/>
  <dc:title>Slide 1</dc:title>
</cp:coreProperties>
</file>