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6BB-6708-4BA0-9C13-D7AE2BE9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645-D314-466D-A01C-8CED3529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135-8290-4518-BBBF-40C80018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03F-506D-454C-B42D-02A7449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5D3-D189-4121-8542-7AC831F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0AA-F51E-4C87-A329-122CF551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DD6-9668-408C-A23B-5BEE307C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A81-635B-4288-BA7A-34D4FF0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EC4-5989-47DA-A5BF-05AB4DC1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D5A-1CC1-4225-BF1C-5B66359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241-0D31-4052-9A2D-8AFD88A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611-6C0E-4F51-89A1-1F72964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02A5-A6A5-40ED-80E2-FB31806E4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2.1.jpg"/>
          <p:cNvPicPr/>
          <p:nvPr/>
        </p:nvPicPr>
        <p:blipFill>
          <a:blip r:embed="rId1"/>
          <a:stretch/>
        </p:blipFill>
        <p:spPr>
          <a:xfrm>
            <a:off x="39528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2.1(Continued).jpg"/>
          <p:cNvPicPr/>
          <p:nvPr/>
        </p:nvPicPr>
        <p:blipFill>
          <a:blip r:embed="rId1"/>
          <a:stretch/>
        </p:blipFill>
        <p:spPr>
          <a:xfrm>
            <a:off x="0" y="264960"/>
            <a:ext cx="914400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9:30Z</dcterms:created>
  <dc:creator>conversion</dc:creator>
  <dc:description/>
  <dc:language>en-US</dc:language>
  <cp:lastModifiedBy>conversion</cp:lastModifiedBy>
  <dcterms:modified xsi:type="dcterms:W3CDTF">2014-05-22T10:20:13Z</dcterms:modified>
  <cp:revision>1</cp:revision>
  <dc:subject/>
  <dc:title>Slide 1</dc:title>
</cp:coreProperties>
</file>