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CF337-ABE2-4155-9B6C-4DC0D9333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6F9BA-6651-43B4-BA26-F37F1D6C3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92B02-1472-4B7E-9C63-E94D3D507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B2F13-AD78-48E9-9D88-1B3F6C589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B67B4-AA07-45A1-8DDB-639C8F45F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31ACB-4756-48F4-8135-CC89681E7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1289C-0333-4147-86CF-AA0BD94BB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0986B-F138-4788-8F3F-38048A8BD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52DEA-C13C-4C9D-ABAC-63E954FC2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D39FF-7CA9-4E19-8695-62A183014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20D1D-CB3B-45BC-8277-BDA4D4E82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47CBE-BC88-4877-953A-B0D9DBCAB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F7FBB-1647-4F1F-A046-251FBD9EEC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Lowenthal_6e_Box 13.1.jpg"/>
          <p:cNvPicPr/>
          <p:nvPr/>
        </p:nvPicPr>
        <p:blipFill>
          <a:blip r:embed="rId1"/>
          <a:stretch/>
        </p:blipFill>
        <p:spPr>
          <a:xfrm>
            <a:off x="0" y="868320"/>
            <a:ext cx="9144000" cy="51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0:20:24Z</dcterms:created>
  <dc:creator>conversion</dc:creator>
  <dc:description/>
  <dc:language>en-US</dc:language>
  <cp:lastModifiedBy>conversion</cp:lastModifiedBy>
  <dcterms:modified xsi:type="dcterms:W3CDTF">2014-05-22T10:20:55Z</dcterms:modified>
  <cp:revision>1</cp:revision>
  <dc:subject/>
  <dc:title>Slide 1</dc:title>
</cp:coreProperties>
</file>