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D24-A82E-4814-90BA-E07F6CA0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85C-E82D-40DC-8B84-7F36146F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9E7-BA96-41AB-9432-D7CA7C4B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0C2-C743-42A0-82A3-0F5491DB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B5B-4BA3-45F7-972C-F6786D30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D09-1E94-46D4-B839-78786442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49F-8919-473F-88AB-8BC28093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8E6-1E8F-4CC9-BFAA-1AA6F502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9F7-7764-4C50-940E-E07C7673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D65-54F7-40C9-9FE5-9F155D64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588-C5C2-4E0D-8DCA-4181C083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49A-AAE0-45D1-89F5-17B08AC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A12E-1AFD-4CD0-B1EF-5E0B1227D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6.1.jpg"/>
          <p:cNvPicPr/>
          <p:nvPr/>
        </p:nvPicPr>
        <p:blipFill>
          <a:blip r:embed="rId1"/>
          <a:stretch/>
        </p:blipFill>
        <p:spPr>
          <a:xfrm>
            <a:off x="1135080" y="0"/>
            <a:ext cx="68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6.1(Continued).jpg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6.2.jpg"/>
          <p:cNvPicPr/>
          <p:nvPr/>
        </p:nvPicPr>
        <p:blipFill>
          <a:blip r:embed="rId1"/>
          <a:stretch/>
        </p:blipFill>
        <p:spPr>
          <a:xfrm>
            <a:off x="50328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3:40Z</dcterms:created>
  <dc:creator>conversion</dc:creator>
  <dc:description/>
  <dc:language>en-US</dc:language>
  <cp:lastModifiedBy>conversion</cp:lastModifiedBy>
  <dcterms:modified xsi:type="dcterms:W3CDTF">2014-05-22T10:14:39Z</dcterms:modified>
  <cp:revision>1</cp:revision>
  <dc:subject/>
  <dc:title>Slide 1</dc:title>
</cp:coreProperties>
</file>