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7E4-A557-4CCB-9D77-E6DB5CF9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209-8FAE-48B3-A747-A2729AA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4AF-E5A4-41EA-8BA8-6CF368D5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D2C-D773-45C8-ADE7-A472F596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1E3-C957-4ED0-8CCC-3A61EB6E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2BF-2C1D-4CFB-A4D2-D07A3C6F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AC5-100B-499F-9028-584FA267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863-5A8C-409D-8EF5-05B32A86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116-07E0-4397-85AF-720994C2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987-3897-49EC-8BF6-568E5E5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A0C-94AC-462E-89BC-02D7028C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9B0-A604-4EF5-B86E-771A6314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2F7A-89DD-49F4-8DC0-F45D473E7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1.1.jpg"/>
          <p:cNvPicPr/>
          <p:nvPr/>
        </p:nvPicPr>
        <p:blipFill>
          <a:blip r:embed="rId1"/>
          <a:stretch/>
        </p:blipFill>
        <p:spPr>
          <a:xfrm>
            <a:off x="1203480" y="0"/>
            <a:ext cx="67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1.2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1.3.jpg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Box 1.4.jpg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05:59Z</dcterms:created>
  <dc:creator>conversion</dc:creator>
  <dc:description/>
  <dc:language>en-US</dc:language>
  <cp:lastModifiedBy>conversion</cp:lastModifiedBy>
  <dcterms:modified xsi:type="dcterms:W3CDTF">2014-05-22T10:07:23Z</dcterms:modified>
  <cp:revision>1</cp:revision>
  <dc:subject/>
  <dc:title>Slide 1</dc:title>
</cp:coreProperties>
</file>