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850-3013-4B30-8162-0CE4E05B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551-085E-492D-8AA4-8B68D26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925-0E05-4570-99A5-984357D8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E60-1BF4-4BD4-8663-DD93D1D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D3A-4F28-4115-A91D-43D5F475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F3F-FF8B-430B-90EA-C1261A6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BA4-F692-4DD9-994A-DCF5E18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EBF-7FE6-4B0E-BC07-27F2C95E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C9B-D942-464E-8DA4-0338700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0E4-1FB3-45A8-8843-6681E088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334-486A-45EB-93D3-05D02A8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0DB-A327-40DF-83B4-5A035BF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D802-7479-4D73-A476-1CF584CC0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9.1.jpg"/>
          <p:cNvPicPr/>
          <p:nvPr/>
        </p:nvPicPr>
        <p:blipFill>
          <a:blip r:embed="rId1"/>
          <a:stretch/>
        </p:blipFill>
        <p:spPr>
          <a:xfrm>
            <a:off x="1309680" y="0"/>
            <a:ext cx="652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9.2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9.3.jpg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9.4.jpg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7:24Z</dcterms:created>
  <dc:creator>conversion</dc:creator>
  <dc:description/>
  <dc:language>en-US</dc:language>
  <cp:lastModifiedBy>conversion</cp:lastModifiedBy>
  <dcterms:modified xsi:type="dcterms:W3CDTF">2014-05-22T10:17:59Z</dcterms:modified>
  <cp:revision>1</cp:revision>
  <dc:subject/>
  <dc:title>Slide 1</dc:title>
</cp:coreProperties>
</file>