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106-6896-44FC-AAF7-51D52774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701-1252-4204-974D-E9A9ECE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33A-7BD1-46A0-9AB4-ECFFEF3B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D81-930F-46D5-813A-74ED0B24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C04-5BE3-4C5D-B042-9212FD04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B7D-0FB6-42AF-AE82-CC606B26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AEE-3CEA-433C-8203-924A823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E1E-A7FB-4420-9215-C783F43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CDB-4308-4A1E-9434-18103023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ABC-5B5B-444D-86F4-BD631AF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7F7-68C9-40D0-9F20-EA117E9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522-19C2-409C-ADCF-8AC6F67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C38-9F07-448A-89BE-76AE3AD83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2.1.jpg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2.1(Continued).jpg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9:30Z</dcterms:created>
  <dc:creator>conversion</dc:creator>
  <dc:description/>
  <dc:language>en-US</dc:language>
  <cp:lastModifiedBy>conversion</cp:lastModifiedBy>
  <dcterms:modified xsi:type="dcterms:W3CDTF">2014-05-22T10:20:13Z</dcterms:modified>
  <cp:revision>1</cp:revision>
  <dc:subject/>
  <dc:title>Slide 1</dc:title>
</cp:coreProperties>
</file>