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91B-954E-4A01-BFCB-8E31B389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8D9-9F05-4219-AB2D-EEB273FB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523-33F9-4B88-B6F2-914B8D9C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8A2-7C84-422F-B797-42F4CF5E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AF5-6E4F-41DE-AABD-6A49A5CA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AE8-CFA3-4EDA-B93F-CDD3B284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1B4-1130-43EA-AD85-CFABD2D3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A01-03E6-4470-B7F4-F26D67AC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DAE-64FC-478A-A8F5-2B9F8E09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CF2-99F8-4D4F-8A24-AA595984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FAA-DB43-4B7A-A158-46C02F48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4E5-9A2B-4BC6-B9C1-3EFB4EF5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8A0D-508D-46EC-891E-835128DC7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Figure 4.1.jpg"/>
          <p:cNvPicPr/>
          <p:nvPr/>
        </p:nvPicPr>
        <p:blipFill>
          <a:blip r:embed="rId1"/>
          <a:stretch/>
        </p:blipFill>
        <p:spPr>
          <a:xfrm>
            <a:off x="0" y="803160"/>
            <a:ext cx="914400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Figure 4.2.jpg"/>
          <p:cNvPicPr/>
          <p:nvPr/>
        </p:nvPicPr>
        <p:blipFill>
          <a:blip r:embed="rId1"/>
          <a:stretch/>
        </p:blipFill>
        <p:spPr>
          <a:xfrm>
            <a:off x="1620720" y="0"/>
            <a:ext cx="590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Figure 4.3.jpg"/>
          <p:cNvPicPr/>
          <p:nvPr/>
        </p:nvPicPr>
        <p:blipFill>
          <a:blip r:embed="rId1"/>
          <a:stretch/>
        </p:blipFill>
        <p:spPr>
          <a:xfrm>
            <a:off x="0" y="1682640"/>
            <a:ext cx="91440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Figure 4.4.jpg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09:02Z</dcterms:created>
  <dc:creator>conversion</dc:creator>
  <dc:description/>
  <dc:language>en-US</dc:language>
  <cp:lastModifiedBy>conversion</cp:lastModifiedBy>
  <dcterms:modified xsi:type="dcterms:W3CDTF">2014-05-22T10:09:29Z</dcterms:modified>
  <cp:revision>1</cp:revision>
  <dc:subject/>
  <dc:title>Slide 1</dc:title>
</cp:coreProperties>
</file>