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C34-247E-45F1-A373-5BBD538C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830-EF7B-4174-B7EE-AAFA5A2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627-C8EB-4EC5-88ED-20AFE7FA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989-B629-414C-8174-09907DE1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081-D39E-4E08-863D-FE288AB9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668-9802-4810-9760-B2F07F37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C24-3752-46CD-9BD9-433B9A9F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A87-0B1C-45E7-8499-74DD055F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7F1-E6C8-49E9-ADF6-97497DD1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BF2-B161-4B50-9B9E-C9184CEC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0C5-6A0A-41D8-AEC7-136C666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99C-1A28-4525-A995-212C18D9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C74-E27E-49AE-8EC1-0E8558BF8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7.1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7.1(Continued)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7.2.jpg"/>
          <p:cNvPicPr/>
          <p:nvPr/>
        </p:nvPicPr>
        <p:blipFill>
          <a:blip r:embed="rId1"/>
          <a:stretch/>
        </p:blipFill>
        <p:spPr>
          <a:xfrm>
            <a:off x="0" y="2252520"/>
            <a:ext cx="91440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7.3.jpg"/>
          <p:cNvPicPr/>
          <p:nvPr/>
        </p:nvPicPr>
        <p:blipFill>
          <a:blip r:embed="rId1"/>
          <a:stretch/>
        </p:blipFill>
        <p:spPr>
          <a:xfrm>
            <a:off x="187632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5:25Z</dcterms:created>
  <dc:creator>conversion</dc:creator>
  <dc:description/>
  <dc:language>en-US</dc:language>
  <cp:lastModifiedBy>conversion</cp:lastModifiedBy>
  <dcterms:modified xsi:type="dcterms:W3CDTF">2014-05-22T10:15:53Z</dcterms:modified>
  <cp:revision>1</cp:revision>
  <dc:subject/>
  <dc:title>Slide 1</dc:title>
</cp:coreProperties>
</file>