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1E7AC-854C-4B56-A553-61E40FC3F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E7466-6910-412C-B249-3B10B468E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031C7-3341-4852-AE5F-557B28830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1EE62-C65F-4BD3-973F-E44D68C44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BBBDB-3450-437E-A7F8-999A2BE9B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3F6BB-3E86-4B41-AADB-AB2463A76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E20E9-62D0-4400-B006-2FC737E29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6DEE4-6757-4139-B879-160DF653A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974E5-E8E6-477E-A20C-1AABFB607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3387A-9996-4B55-B0C5-208696406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8EEC4-63BB-4B45-A782-CCF9EB7CA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7B817-44BD-4239-8B73-DBBAC3F0B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7A2C7-996D-44D8-92C5-C07EE3907E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Lowenthal_6e_Box 13.1.jpg"/>
          <p:cNvPicPr/>
          <p:nvPr/>
        </p:nvPicPr>
        <p:blipFill>
          <a:blip r:embed="rId1"/>
          <a:stretch/>
        </p:blipFill>
        <p:spPr>
          <a:xfrm>
            <a:off x="0" y="868320"/>
            <a:ext cx="9144000" cy="51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0:20:24Z</dcterms:created>
  <dc:creator>conversion</dc:creator>
  <dc:description/>
  <dc:language>en-US</dc:language>
  <cp:lastModifiedBy>conversion</cp:lastModifiedBy>
  <dcterms:modified xsi:type="dcterms:W3CDTF">2014-05-22T10:20:55Z</dcterms:modified>
  <cp:revision>1</cp:revision>
  <dc:subject/>
  <dc:title>Slide 1</dc:title>
</cp:coreProperties>
</file>