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FDC-865F-4006-BD3F-C3AD3BCC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20CE-35FA-4918-B609-E9C122B1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4DA6-CEA3-4773-B6CF-C46CBAEE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A02-2AC3-4C34-B7FC-E863D513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8B4-460F-49C0-A842-91490FEB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6B45-8076-434B-891E-EEAE2A88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410-3DAC-4957-9CE6-4958F79B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9B0-3D71-4F4F-88F4-25ACDE89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3CAE-A7A6-4CC7-8EAB-ACB4CC15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08F-41B5-4E7B-9FF7-68F0BAE3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9BA4-A79B-4FA9-BEED-82D67D40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677-29C6-43F0-A83A-4A1E93E6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C147-A0D0-48B9-87D9-FEED4DAA5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wenthal_6e_Box 8.1.jpg"/>
          <p:cNvPicPr/>
          <p:nvPr/>
        </p:nvPicPr>
        <p:blipFill>
          <a:blip r:embed="rId1"/>
          <a:stretch/>
        </p:blipFill>
        <p:spPr>
          <a:xfrm>
            <a:off x="449280" y="0"/>
            <a:ext cx="824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owenthal_6e_Box 8.2(Continued).jpg"/>
          <p:cNvPicPr/>
          <p:nvPr/>
        </p:nvPicPr>
        <p:blipFill>
          <a:blip r:embed="rId1"/>
          <a:stretch/>
        </p:blipFill>
        <p:spPr>
          <a:xfrm>
            <a:off x="0" y="947880"/>
            <a:ext cx="9144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owenthal_6e_Box 8.2.jpg"/>
          <p:cNvPicPr/>
          <p:nvPr/>
        </p:nvPicPr>
        <p:blipFill>
          <a:blip r:embed="rId1"/>
          <a:stretch/>
        </p:blipFill>
        <p:spPr>
          <a:xfrm>
            <a:off x="0" y="1681200"/>
            <a:ext cx="91440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owenthal_6e_Figure 8.1.jpg"/>
          <p:cNvPicPr/>
          <p:nvPr/>
        </p:nvPicPr>
        <p:blipFill>
          <a:blip r:embed="rId1"/>
          <a:stretch/>
        </p:blipFill>
        <p:spPr>
          <a:xfrm>
            <a:off x="0" y="754200"/>
            <a:ext cx="914400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0:16:29Z</dcterms:created>
  <dc:creator>conversion</dc:creator>
  <dc:description/>
  <dc:language>en-US</dc:language>
  <cp:lastModifiedBy>conversion</cp:lastModifiedBy>
  <dcterms:modified xsi:type="dcterms:W3CDTF">2014-05-22T10:17:01Z</dcterms:modified>
  <cp:revision>1</cp:revision>
  <dc:subject/>
  <dc:title>Slide 1</dc:title>
</cp:coreProperties>
</file>