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2FF-8426-4CC5-A0EF-CC9F6B65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A2B-0661-4ED9-8AF0-CA3BFCE9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8C3-2075-4D40-9D14-824B8E01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705-8045-4925-9EBB-34E2DE7B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AA2-B605-4A4E-8DCC-EF65E9DC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54E-C5D0-4951-A2E0-05F1891C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CE0-5DF6-4E98-9A88-63F4D5DB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E99-774C-40CC-B3B5-B86700E5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8C9-1CB8-4C04-A130-280B39DF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492-C210-4B9E-91CB-E11957FC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C03-D435-4770-BE2E-FEF4641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7F0-1903-4EF8-8753-272EF296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81B3-D9BF-47F2-BF96-97E2E8724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3.1.jpg"/>
          <p:cNvPicPr/>
          <p:nvPr/>
        </p:nvPicPr>
        <p:blipFill>
          <a:blip r:embed="rId1"/>
          <a:stretch/>
        </p:blipFill>
        <p:spPr>
          <a:xfrm>
            <a:off x="0" y="1722600"/>
            <a:ext cx="914400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3.2.jpg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Figure 3.1.jpg"/>
          <p:cNvPicPr/>
          <p:nvPr/>
        </p:nvPicPr>
        <p:blipFill>
          <a:blip r:embed="rId1"/>
          <a:stretch/>
        </p:blipFill>
        <p:spPr>
          <a:xfrm>
            <a:off x="1701720" y="0"/>
            <a:ext cx="574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Figure 3.2.jpg"/>
          <p:cNvPicPr/>
          <p:nvPr/>
        </p:nvPicPr>
        <p:blipFill>
          <a:blip r:embed="rId1"/>
          <a:stretch/>
        </p:blipFill>
        <p:spPr>
          <a:xfrm>
            <a:off x="641520" y="0"/>
            <a:ext cx="78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Lowenthal_6e_Figure 3.3.jpg"/>
          <p:cNvPicPr/>
          <p:nvPr/>
        </p:nvPicPr>
        <p:blipFill>
          <a:blip r:embed="rId1"/>
          <a:stretch/>
        </p:blipFill>
        <p:spPr>
          <a:xfrm>
            <a:off x="1533600" y="0"/>
            <a:ext cx="607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Lowenthal_6e_Figure 3.4.jpg"/>
          <p:cNvPicPr/>
          <p:nvPr/>
        </p:nvPicPr>
        <p:blipFill>
          <a:blip r:embed="rId1"/>
          <a:stretch/>
        </p:blipFill>
        <p:spPr>
          <a:xfrm>
            <a:off x="1986120" y="0"/>
            <a:ext cx="517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Lowenthal_6e_Figure 3.5.jpg"/>
          <p:cNvPicPr/>
          <p:nvPr/>
        </p:nvPicPr>
        <p:blipFill>
          <a:blip r:embed="rId1"/>
          <a:stretch/>
        </p:blipFill>
        <p:spPr>
          <a:xfrm>
            <a:off x="0" y="665280"/>
            <a:ext cx="914400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08:08Z</dcterms:created>
  <dc:creator>conversion</dc:creator>
  <dc:description/>
  <dc:language>en-US</dc:language>
  <cp:lastModifiedBy>conversion</cp:lastModifiedBy>
  <dcterms:modified xsi:type="dcterms:W3CDTF">2014-05-22T10:08:39Z</dcterms:modified>
  <cp:revision>1</cp:revision>
  <dc:subject/>
  <dc:title>Slide 1</dc:title>
</cp:coreProperties>
</file>