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DCB-68F0-4E59-8C6A-D80AF619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9E8-B815-4F5F-AD90-BDE1635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C6E-9422-43B3-8CCA-98636622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167-B34D-4790-A215-2F46D88F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F40-690E-415D-966F-FB623DD5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C61-7352-4E55-8333-F76FC846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9A7-3EE4-4A01-BCB4-8A0D43A3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5D9-677A-4840-BEA3-6775BFCC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AAE-65FF-4C74-87A1-1D627578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2BD-B0DA-4FC9-8803-C2624909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E6B-8135-4E23-9D6B-AAF5D9D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7E3-9C8F-4F64-B006-7623F23E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226-1355-4DB1-A22E-58BA92D8A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6.1.jpg"/>
          <p:cNvPicPr/>
          <p:nvPr/>
        </p:nvPicPr>
        <p:blipFill>
          <a:blip r:embed="rId1"/>
          <a:stretch/>
        </p:blipFill>
        <p:spPr>
          <a:xfrm>
            <a:off x="1135080" y="0"/>
            <a:ext cx="68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6.1(Continued).jpg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6.2.jpg"/>
          <p:cNvPicPr/>
          <p:nvPr/>
        </p:nvPicPr>
        <p:blipFill>
          <a:blip r:embed="rId1"/>
          <a:stretch/>
        </p:blipFill>
        <p:spPr>
          <a:xfrm>
            <a:off x="50328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13:40Z</dcterms:created>
  <dc:creator>conversion</dc:creator>
  <dc:description/>
  <dc:language>en-US</dc:language>
  <cp:lastModifiedBy>conversion</cp:lastModifiedBy>
  <dcterms:modified xsi:type="dcterms:W3CDTF">2014-05-22T10:14:39Z</dcterms:modified>
  <cp:revision>1</cp:revision>
  <dc:subject/>
  <dc:title>Slide 1</dc:title>
</cp:coreProperties>
</file>