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5D6-DD1D-4634-B814-41250EE5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F1D-F95A-4B87-B0B6-E9CA8339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166-BEFC-4E8B-921B-A98CD9DA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D9D-4FBC-4AEA-B7BB-B59B394E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385-0930-4DAE-8684-B9CB61FD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368-A7F6-4873-B9AB-F08E9B49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4DD-2628-4702-B1D5-223A0B98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7B0-194F-4BC9-BCCC-E5E6A611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B64-C4CD-403A-8F26-21703A3C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999-2FAB-4E13-80F1-94214712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224-F14B-4499-A018-3281C8FD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C3C-62EE-4CBD-B1A6-59F0D16F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733B-C239-4AF5-9154-23D417AA1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Figure 4.1.jpg"/>
          <p:cNvPicPr/>
          <p:nvPr/>
        </p:nvPicPr>
        <p:blipFill>
          <a:blip r:embed="rId1"/>
          <a:stretch/>
        </p:blipFill>
        <p:spPr>
          <a:xfrm>
            <a:off x="0" y="803160"/>
            <a:ext cx="914400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Figure 4.2.jpg"/>
          <p:cNvPicPr/>
          <p:nvPr/>
        </p:nvPicPr>
        <p:blipFill>
          <a:blip r:embed="rId1"/>
          <a:stretch/>
        </p:blipFill>
        <p:spPr>
          <a:xfrm>
            <a:off x="1620720" y="0"/>
            <a:ext cx="590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Figure 4.3.jpg"/>
          <p:cNvPicPr/>
          <p:nvPr/>
        </p:nvPicPr>
        <p:blipFill>
          <a:blip r:embed="rId1"/>
          <a:stretch/>
        </p:blipFill>
        <p:spPr>
          <a:xfrm>
            <a:off x="0" y="1682640"/>
            <a:ext cx="91440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Figure 4.4.jpg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09:02Z</dcterms:created>
  <dc:creator>conversion</dc:creator>
  <dc:description/>
  <dc:language>en-US</dc:language>
  <cp:lastModifiedBy>conversion</cp:lastModifiedBy>
  <dcterms:modified xsi:type="dcterms:W3CDTF">2014-05-22T10:09:29Z</dcterms:modified>
  <cp:revision>1</cp:revision>
  <dc:subject/>
  <dc:title>Slide 1</dc:title>
</cp:coreProperties>
</file>