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9CAA-D0C8-4263-B0D6-D0F6D6434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8D85-625E-43CC-A1C7-FF869FF6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E979-8EFA-4844-A3CE-A01536FEF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3288-16D5-48E9-9FAA-7E937CF92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1BC7-1EDB-4F21-B92B-52E1BF1D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852B-3CE6-4236-B314-B99F3710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9425-2472-4351-9E8E-6DFDB498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C2EC-B3CE-4E75-A5AD-9FFC066B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F738-BC6E-47B3-9137-B871F24A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83D6-0F59-4B74-9022-4A439081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56AF-0115-4D61-84F4-1B0E1BA4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4873-6A2C-44D5-AE0F-475B6F43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64FF-D468-4362-B9B5-FF00A6E2D8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Lowenthal_6e_Box 10.1.jpg"/>
          <p:cNvPicPr/>
          <p:nvPr/>
        </p:nvPicPr>
        <p:blipFill>
          <a:blip r:embed="rId1"/>
          <a:stretch/>
        </p:blipFill>
        <p:spPr>
          <a:xfrm>
            <a:off x="0" y="912960"/>
            <a:ext cx="9144000" cy="50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Lowenthal_6e_Box 10.2.jpg"/>
          <p:cNvPicPr/>
          <p:nvPr/>
        </p:nvPicPr>
        <p:blipFill>
          <a:blip r:embed="rId1"/>
          <a:stretch/>
        </p:blipFill>
        <p:spPr>
          <a:xfrm>
            <a:off x="0" y="1824120"/>
            <a:ext cx="914400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Lowenthal_6e_Box 10.3.jpg"/>
          <p:cNvPicPr/>
          <p:nvPr/>
        </p:nvPicPr>
        <p:blipFill>
          <a:blip r:embed="rId1"/>
          <a:stretch/>
        </p:blipFill>
        <p:spPr>
          <a:xfrm>
            <a:off x="0" y="1701720"/>
            <a:ext cx="914400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Lowenthal_6e_Table 10.1.jpg"/>
          <p:cNvPicPr/>
          <p:nvPr/>
        </p:nvPicPr>
        <p:blipFill>
          <a:blip r:embed="rId1"/>
          <a:stretch/>
        </p:blipFill>
        <p:spPr>
          <a:xfrm>
            <a:off x="0" y="493560"/>
            <a:ext cx="9144000" cy="587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0:18:22Z</dcterms:created>
  <dc:creator>conversion</dc:creator>
  <dc:description/>
  <dc:language>en-US</dc:language>
  <cp:lastModifiedBy>conversion</cp:lastModifiedBy>
  <dcterms:modified xsi:type="dcterms:W3CDTF">2014-05-22T10:19:05Z</dcterms:modified>
  <cp:revision>1</cp:revision>
  <dc:subject/>
  <dc:title>Slide 1</dc:title>
</cp:coreProperties>
</file>