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0F0-FAC8-4C42-AD9B-90456054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7EB-15AF-4BBD-BFC2-28FD7C7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B41-7640-4B2B-BAE2-FBDA1D16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6F7-DBDA-4907-8F05-E72506D5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B84-6EA7-4DBD-B04E-88C5760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57C-ADD5-4C9D-87FB-D847692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664-5687-4FDF-BB0B-F69A106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57B-C04A-488E-9317-46D2884B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0E6-7470-4948-A21B-26DCC8BC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315-5BE6-47FD-BC01-7CA7CE9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D04-03A0-416C-9B98-787EC93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151-6DBC-4C5B-9E9D-AF19B62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D46-FD52-4EF7-8F7D-6D7690782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Box 5.1"/>
          <p:cNvPicPr/>
          <p:nvPr/>
        </p:nvPicPr>
        <p:blipFill>
          <a:blip r:embed="rId1"/>
          <a:stretch/>
        </p:blipFill>
        <p:spPr>
          <a:xfrm>
            <a:off x="0" y="1468440"/>
            <a:ext cx="91440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teiner_Figure 5.1"/>
          <p:cNvPicPr/>
          <p:nvPr/>
        </p:nvPicPr>
        <p:blipFill>
          <a:blip r:embed="rId1"/>
          <a:stretch/>
        </p:blipFill>
        <p:spPr>
          <a:xfrm>
            <a:off x="2498760" y="0"/>
            <a:ext cx="41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einer_Figure 5.2"/>
          <p:cNvPicPr/>
          <p:nvPr/>
        </p:nvPicPr>
        <p:blipFill>
          <a:blip r:embed="rId1"/>
          <a:stretch/>
        </p:blipFill>
        <p:spPr>
          <a:xfrm>
            <a:off x="666720" y="0"/>
            <a:ext cx="78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teiner_Figure 5.3"/>
          <p:cNvPicPr/>
          <p:nvPr/>
        </p:nvPicPr>
        <p:blipFill>
          <a:blip r:embed="rId1"/>
          <a:stretch/>
        </p:blipFill>
        <p:spPr>
          <a:xfrm>
            <a:off x="2109960" y="0"/>
            <a:ext cx="492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Box 5.1(Continued)"/>
          <p:cNvPicPr/>
          <p:nvPr/>
        </p:nvPicPr>
        <p:blipFill>
          <a:blip r:embed="rId1"/>
          <a:stretch/>
        </p:blipFill>
        <p:spPr>
          <a:xfrm>
            <a:off x="213984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Box 5.2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Box 5.2(Continued)"/>
          <p:cNvPicPr/>
          <p:nvPr/>
        </p:nvPicPr>
        <p:blipFill>
          <a:blip r:embed="rId1"/>
          <a:stretch/>
        </p:blipFill>
        <p:spPr>
          <a:xfrm>
            <a:off x="1025640" y="0"/>
            <a:ext cx="70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teiner_Box 5.3"/>
          <p:cNvPicPr/>
          <p:nvPr/>
        </p:nvPicPr>
        <p:blipFill>
          <a:blip r:embed="rId1"/>
          <a:stretch/>
        </p:blipFill>
        <p:spPr>
          <a:xfrm>
            <a:off x="1833480" y="0"/>
            <a:ext cx="54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einer_Box 5.4"/>
          <p:cNvPicPr/>
          <p:nvPr/>
        </p:nvPicPr>
        <p:blipFill>
          <a:blip r:embed="rId1"/>
          <a:stretch/>
        </p:blipFill>
        <p:spPr>
          <a:xfrm>
            <a:off x="1413000" y="0"/>
            <a:ext cx="63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teiner_Box 5.4(Continued)"/>
          <p:cNvPicPr/>
          <p:nvPr/>
        </p:nvPicPr>
        <p:blipFill>
          <a:blip r:embed="rId1"/>
          <a:stretch/>
        </p:blipFill>
        <p:spPr>
          <a:xfrm>
            <a:off x="2448000" y="0"/>
            <a:ext cx="42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einer_Box 5.5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teiner_Box 5.6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25:50Z</dcterms:created>
  <dc:creator>SGUS-JR</dc:creator>
  <dc:description/>
  <dc:language>en-US</dc:language>
  <cp:lastModifiedBy>SGUS-JR</cp:lastModifiedBy>
  <dcterms:modified xsi:type="dcterms:W3CDTF">2014-07-07T09:27:50Z</dcterms:modified>
  <cp:revision>1</cp:revision>
  <dc:subject/>
  <dc:title>PowerPoint Presentation</dc:title>
</cp:coreProperties>
</file>